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wmf" ContentType="image/x-wmf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055C-173C-4D74-B152-443D56A22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43F8-C2AC-4AEA-9FD6-37F149BA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1ACC-189E-40AA-B182-0355F1FF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A832-7BC1-406C-B3D3-6D140A613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9F45-9F78-48BD-BFD4-A0E0CE32A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B656-3FAE-4C01-A7E9-408DA0E3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3468-1790-41A0-B61F-3F1A48B7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AB56-E61F-4380-B751-AE81381A9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AFAC-DB31-420F-9334-FC30E7081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9181-1A5B-4CF3-811F-9A8657BE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F9A2-98B7-47CB-A94B-3A2C105A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D6B9-C536-4E47-89F4-D3E57DF2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5092-2EC0-449D-AA7A-3FA1BB809A83}" type="slidenum">
              <a:rPr b="0" lang="en-GB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 Black"/>
                <a:ea typeface="Arial"/>
              </a:rPr>
              <a:t>International Seminar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 Black"/>
                <a:ea typeface="Arial"/>
              </a:rPr>
              <a:t>PENANG SURVEY 2012-13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roduct Related Environmental Regulations (PR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Arial"/>
                <a:ea typeface="Arial"/>
              </a:rPr>
              <a:t>13 February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C:\Users\USER 09\PE1-v6_website\files\Presentation1.png"/>
          <p:cNvPicPr/>
          <p:nvPr/>
        </p:nvPicPr>
        <p:blipFill>
          <a:blip r:embed="rId1"/>
          <a:stretch/>
        </p:blipFill>
        <p:spPr>
          <a:xfrm>
            <a:off x="3581280" y="5105520"/>
            <a:ext cx="1951200" cy="793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900000" y="304920"/>
            <a:ext cx="3492720" cy="9903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4648320" y="152280"/>
            <a:ext cx="3828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93600" y="609480"/>
            <a:ext cx="8974080" cy="5639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8458200" y="5867280"/>
            <a:ext cx="609480" cy="9478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"/>
          <p:cNvPicPr/>
          <p:nvPr/>
        </p:nvPicPr>
        <p:blipFill>
          <a:blip r:embed="rId3"/>
          <a:stretch/>
        </p:blipFill>
        <p:spPr>
          <a:xfrm>
            <a:off x="228600" y="6324480"/>
            <a:ext cx="1881360" cy="533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4"/>
          <a:stretch/>
        </p:blipFill>
        <p:spPr>
          <a:xfrm>
            <a:off x="2286000" y="6276960"/>
            <a:ext cx="1905120" cy="5684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6"/>
          <p:cNvSpPr/>
          <p:nvPr/>
        </p:nvSpPr>
        <p:spPr>
          <a:xfrm>
            <a:off x="5943600" y="6642000"/>
            <a:ext cx="1295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</a:rPr>
              <a:t>FMM Penang Branch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5"/>
          <a:stretch/>
        </p:blipFill>
        <p:spPr>
          <a:xfrm>
            <a:off x="6296040" y="6124680"/>
            <a:ext cx="485640" cy="5047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0"/>
          <p:cNvSpPr/>
          <p:nvPr/>
        </p:nvSpPr>
        <p:spPr>
          <a:xfrm>
            <a:off x="4472640" y="639612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7375e"/>
                </a:solidFill>
                <a:latin typeface="Verdana"/>
              </a:rPr>
              <a:t>FREPENC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 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917640" y="669960"/>
            <a:ext cx="7308720" cy="6146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C:\Users\USER 09\PE1-v6_website\files\Presentation1.png"/>
          <p:cNvPicPr/>
          <p:nvPr/>
        </p:nvPicPr>
        <p:blipFill>
          <a:blip r:embed="rId2"/>
          <a:stretch/>
        </p:blipFill>
        <p:spPr>
          <a:xfrm>
            <a:off x="0" y="6019920"/>
            <a:ext cx="195120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rvey Respon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228600" y="1600200"/>
          <a:ext cx="4648320" cy="1752480"/>
        </p:xfrm>
        <a:graphic>
          <a:graphicData uri="http://schemas.openxmlformats.org/drawingml/2006/table">
            <a:tbl>
              <a:tblPr/>
              <a:tblGrid>
                <a:gridCol w="1047600"/>
                <a:gridCol w="1200240"/>
                <a:gridCol w="1200240"/>
                <a:gridCol w="1200240"/>
              </a:tblGrid>
              <a:tr h="291960">
                <a:tc>
                  <a:txBody>
                    <a:bodyPr lIns="68760" rIns="68760" tIns="0" bIns="0" anchor="t">
                      <a:noAutofit/>
                    </a:bodyPr>
                    <a:p>
                      <a:pPr marL="4608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scrip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mployee siz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cent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t">
                      <a:noAutofit/>
                    </a:bodyPr>
                    <a:p>
                      <a:pPr marL="4608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ic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ss than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291960">
                <a:tc>
                  <a:txBody>
                    <a:bodyPr lIns="68760" rIns="68760" tIns="0" bIns="0" anchor="t">
                      <a:noAutofit/>
                    </a:bodyPr>
                    <a:p>
                      <a:pPr marL="4608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mal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-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68760" rIns="68760" tIns="0" bIns="0" anchor="t">
                      <a:noAutofit/>
                    </a:bodyPr>
                    <a:p>
                      <a:pPr marL="4608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ed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1-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291960">
                <a:tc>
                  <a:txBody>
                    <a:bodyPr lIns="68760" rIns="68760" tIns="0" bIns="0" anchor="t">
                      <a:noAutofit/>
                    </a:bodyPr>
                    <a:p>
                      <a:pPr marL="4608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gt;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5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68760" rIns="68760" tIns="0" bIns="0" anchor="t">
                      <a:noAutofit/>
                    </a:bodyPr>
                    <a:p>
                      <a:pPr marL="4608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608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608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4608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5105520" y="1380960"/>
          <a:ext cx="3657600" cy="2124360"/>
        </p:xfrm>
        <a:graphic>
          <a:graphicData uri="http://schemas.openxmlformats.org/drawingml/2006/table">
            <a:tbl>
              <a:tblPr/>
              <a:tblGrid>
                <a:gridCol w="1920600"/>
                <a:gridCol w="844560"/>
                <a:gridCol w="892440"/>
              </a:tblGrid>
              <a:tr h="460440">
                <a:tc>
                  <a:txBody>
                    <a:bodyPr lIns="68760" rIns="68760" tIns="0" bIns="0" anchor="t">
                      <a:noAutofit/>
                    </a:bodyPr>
                    <a:p>
                      <a:pPr marL="4608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ort Stat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cent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68760" rIns="68760" tIns="0" bIns="0" anchor="t">
                      <a:noAutofit/>
                    </a:bodyPr>
                    <a:p>
                      <a:pPr marL="4608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rect Ex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4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01680">
                <a:tc>
                  <a:txBody>
                    <a:bodyPr lIns="68760" rIns="68760" tIns="0" bIns="0" anchor="t">
                      <a:noAutofit/>
                    </a:bodyPr>
                    <a:p>
                      <a:pPr marL="4608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direct Ex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3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68760" rIns="68760" tIns="0" bIns="0" anchor="t">
                      <a:noAutofit/>
                    </a:bodyPr>
                    <a:p>
                      <a:pPr marL="4608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oth Direct &amp; Indirect Ex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301680">
                <a:tc>
                  <a:txBody>
                    <a:bodyPr lIns="68760" rIns="68760" tIns="0" bIns="0" anchor="t">
                      <a:noAutofit/>
                    </a:bodyPr>
                    <a:p>
                      <a:pPr marL="4608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n Expor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 </a:t>
                      </a: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8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68760" rIns="68760" tIns="0" bIns="0" anchor="t">
                      <a:noAutofit/>
                    </a:bodyPr>
                    <a:p>
                      <a:pPr marL="4608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380880" y="3724200"/>
          <a:ext cx="7620120" cy="2981520"/>
        </p:xfrm>
        <a:graphic>
          <a:graphicData uri="http://schemas.openxmlformats.org/drawingml/2006/table">
            <a:tbl>
              <a:tblPr/>
              <a:tblGrid>
                <a:gridCol w="2457720"/>
                <a:gridCol w="1861920"/>
                <a:gridCol w="1862280"/>
                <a:gridCol w="1438200"/>
              </a:tblGrid>
              <a:tr h="487080"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xport Sta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ok measure / been asked to take measure on chemical manage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centage taken meas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73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608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Y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marL="4608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b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13680">
                      <a:solidFill>
                        <a:srgbClr val="4f81bd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marL="4608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rect Ex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1368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marL="4608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direct Ex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 marL="4608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oth Direct &amp; Indirect Ex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6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marL="4608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on Exp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 marL="46080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61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Arial"/>
              </a:rPr>
              <a:t>Chang Yii T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C:\Users\USER 09\PE1-v6_website\files\Presentation1.png"/>
          <p:cNvPicPr/>
          <p:nvPr/>
        </p:nvPicPr>
        <p:blipFill>
          <a:blip r:embed="rId1"/>
          <a:stretch/>
        </p:blipFill>
        <p:spPr>
          <a:xfrm>
            <a:off x="3597120" y="4876920"/>
            <a:ext cx="1951200" cy="793800"/>
          </a:xfrm>
          <a:prstGeom prst="rect">
            <a:avLst/>
          </a:prstGeom>
          <a:ln w="0">
            <a:noFill/>
          </a:ln>
        </p:spPr>
      </p:pic>
      <p:sp>
        <p:nvSpPr>
          <p:cNvPr id="130" name="Subtitle 2"/>
          <p:cNvSpPr/>
          <p:nvPr/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Arial"/>
              </a:rPr>
              <a:t>20 February 201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ER Survey 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335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o study the impact of PRERs or              </a:t>
            </a:r>
            <a:r>
              <a:rPr b="0" i="1" lang="en-GB" sz="3000" spc="-1" strike="noStrike">
                <a:solidFill>
                  <a:srgbClr val="e46c0a"/>
                </a:solidFill>
                <a:latin typeface="Arial"/>
              </a:rPr>
              <a:t>Product Related Environmental Regulations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on manufacturing firms in Penang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survey would collect information 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rm characteristics, production and procurement, export propensit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gulations/requirements related to chemicals in products made by their customers that need to be me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firms adapt the regulations/requirements,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he regulations/requirements affect firms’ performanc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get number of interviews is 200 &amp; up to 35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y Structure and M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ly Chain and Clu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e Zones and Principal Customs A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vironmental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aysia: environmental quality, po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/Developed Countries: environment and Product Related Environmental Reg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vey and Census: Techn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3"/>
          <p:cNvGrpSpPr/>
          <p:nvPr/>
        </p:nvGrpSpPr>
        <p:grpSpPr>
          <a:xfrm>
            <a:off x="108000" y="914400"/>
            <a:ext cx="9217080" cy="5904000"/>
            <a:chOff x="108000" y="914400"/>
            <a:chExt cx="9217080" cy="5904000"/>
          </a:xfrm>
        </p:grpSpPr>
        <p:sp>
          <p:nvSpPr>
            <p:cNvPr id="51" name="Straight Connector 21"/>
            <p:cNvSpPr/>
            <p:nvPr/>
          </p:nvSpPr>
          <p:spPr>
            <a:xfrm>
              <a:off x="7380360" y="1778040"/>
              <a:ext cx="0" cy="2376360"/>
            </a:xfrm>
            <a:prstGeom prst="line">
              <a:avLst/>
            </a:prstGeom>
            <a:ln w="63360">
              <a:solidFill>
                <a:srgbClr val="c0504d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7525080" y="2066760"/>
              <a:ext cx="1584360" cy="180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 rot="5400000">
              <a:off x="-468720" y="1562040"/>
              <a:ext cx="5904000" cy="4608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ight Arrow 19"/>
            <p:cNvSpPr/>
            <p:nvPr/>
          </p:nvSpPr>
          <p:spPr>
            <a:xfrm rot="15943200">
              <a:off x="-56160" y="3334320"/>
              <a:ext cx="1512720" cy="288720"/>
            </a:xfrm>
            <a:prstGeom prst="rightArrow">
              <a:avLst>
                <a:gd name="adj1" fmla="val 50000"/>
                <a:gd name="adj2" fmla="val 5001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U-Turn Arrow 24"/>
            <p:cNvSpPr/>
            <p:nvPr/>
          </p:nvSpPr>
          <p:spPr>
            <a:xfrm rot="5400000">
              <a:off x="5976360" y="2173680"/>
              <a:ext cx="576000" cy="2232000"/>
            </a:xfrm>
            <a:custGeom>
              <a:avLst/>
              <a:gdLst/>
              <a:ahLst/>
              <a:rect l="l" t="t" r="r" b="b"/>
              <a:pathLst>
                <a:path w="576335" h="2232043">
                  <a:moveTo>
                    <a:pt x="0" y="2232043"/>
                  </a:moveTo>
                  <a:lnTo>
                    <a:pt x="0" y="252147"/>
                  </a:lnTo>
                  <a:lnTo>
                    <a:pt x="0" y="252147"/>
                  </a:lnTo>
                  <a:arcTo wR="252147" hR="252147" stAng="10800000" swAng="5400000"/>
                  <a:lnTo>
                    <a:pt x="252147" y="0"/>
                  </a:lnTo>
                  <a:lnTo>
                    <a:pt x="252147" y="0"/>
                  </a:lnTo>
                  <a:arcTo wR="252147" hR="252147" stAng="-5400000" swAng="5400000"/>
                  <a:lnTo>
                    <a:pt x="504293" y="525551"/>
                  </a:lnTo>
                  <a:lnTo>
                    <a:pt x="576335" y="525551"/>
                  </a:lnTo>
                  <a:lnTo>
                    <a:pt x="432251" y="669635"/>
                  </a:lnTo>
                  <a:lnTo>
                    <a:pt x="288168" y="525551"/>
                  </a:lnTo>
                  <a:lnTo>
                    <a:pt x="360209" y="525551"/>
                  </a:lnTo>
                  <a:lnTo>
                    <a:pt x="360209" y="252147"/>
                  </a:lnTo>
                  <a:lnTo>
                    <a:pt x="360209" y="252147"/>
                  </a:lnTo>
                  <a:arcTo wR="108063" hR="108063" stAng="0" swAng="-5400000"/>
                  <a:lnTo>
                    <a:pt x="252147" y="144084"/>
                  </a:lnTo>
                  <a:lnTo>
                    <a:pt x="252147" y="144084"/>
                  </a:lnTo>
                  <a:arcTo wR="108063" hR="108063" stAng="-5400000" swAng="-5400000"/>
                  <a:lnTo>
                    <a:pt x="144084" y="2232043"/>
                  </a:lnTo>
                  <a:close/>
                </a:path>
              </a:pathLst>
            </a:custGeom>
            <a:solidFill>
              <a:srgbClr val="9bbb59"/>
            </a:solidFill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TextBox 28"/>
            <p:cNvSpPr/>
            <p:nvPr/>
          </p:nvSpPr>
          <p:spPr>
            <a:xfrm>
              <a:off x="108000" y="91440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alaysia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TextBox 29"/>
            <p:cNvSpPr/>
            <p:nvPr/>
          </p:nvSpPr>
          <p:spPr>
            <a:xfrm>
              <a:off x="6876720" y="1346400"/>
              <a:ext cx="86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ER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TextBox 30"/>
            <p:cNvSpPr/>
            <p:nvPr/>
          </p:nvSpPr>
          <p:spPr>
            <a:xfrm>
              <a:off x="7524720" y="2066400"/>
              <a:ext cx="180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xport Markets with PRER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TextBox 32"/>
            <p:cNvSpPr/>
            <p:nvPr/>
          </p:nvSpPr>
          <p:spPr>
            <a:xfrm>
              <a:off x="5724720" y="2282760"/>
              <a:ext cx="1008000" cy="368280"/>
            </a:xfrm>
            <a:prstGeom prst="rect">
              <a:avLst/>
            </a:prstGeom>
            <a:solidFill>
              <a:srgbClr val="9bbb59"/>
            </a:solidFill>
            <a:ln w="255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xport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TextBox 34"/>
            <p:cNvSpPr/>
            <p:nvPr/>
          </p:nvSpPr>
          <p:spPr>
            <a:xfrm>
              <a:off x="7452720" y="4732200"/>
              <a:ext cx="1728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xport Markets without PRER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20"/>
            <p:cNvSpPr/>
            <p:nvPr/>
          </p:nvSpPr>
          <p:spPr>
            <a:xfrm>
              <a:off x="252360" y="1417320"/>
              <a:ext cx="2016000" cy="3384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22"/>
            <p:cNvSpPr/>
            <p:nvPr/>
          </p:nvSpPr>
          <p:spPr>
            <a:xfrm>
              <a:off x="468360" y="1993680"/>
              <a:ext cx="1008000" cy="1152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" name="TextBox 28"/>
            <p:cNvSpPr/>
            <p:nvPr/>
          </p:nvSpPr>
          <p:spPr>
            <a:xfrm>
              <a:off x="180000" y="141840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enang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" name="TextBox 28"/>
            <p:cNvSpPr/>
            <p:nvPr/>
          </p:nvSpPr>
          <p:spPr>
            <a:xfrm>
              <a:off x="396000" y="1985040"/>
              <a:ext cx="115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ree Zon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" name="Rectangle 28"/>
            <p:cNvSpPr/>
            <p:nvPr/>
          </p:nvSpPr>
          <p:spPr>
            <a:xfrm>
              <a:off x="3708360" y="3075120"/>
              <a:ext cx="1008000" cy="1150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6" name="TextBox 32"/>
            <p:cNvSpPr/>
            <p:nvPr/>
          </p:nvSpPr>
          <p:spPr>
            <a:xfrm>
              <a:off x="3708360" y="307440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ustom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" name="Right Arrow 30"/>
            <p:cNvSpPr/>
            <p:nvPr/>
          </p:nvSpPr>
          <p:spPr>
            <a:xfrm>
              <a:off x="1981080" y="1768320"/>
              <a:ext cx="1143000" cy="288720"/>
            </a:xfrm>
            <a:prstGeom prst="rightArrow">
              <a:avLst>
                <a:gd name="adj1" fmla="val 50000"/>
                <a:gd name="adj2" fmla="val 5003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" name="Right Arrow 31"/>
            <p:cNvSpPr/>
            <p:nvPr/>
          </p:nvSpPr>
          <p:spPr>
            <a:xfrm rot="14986800">
              <a:off x="199440" y="5249520"/>
              <a:ext cx="2133720" cy="288720"/>
            </a:xfrm>
            <a:prstGeom prst="rightArrow">
              <a:avLst>
                <a:gd name="adj1" fmla="val 50000"/>
                <a:gd name="adj2" fmla="val 5002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9" name="Right Arrow 32"/>
            <p:cNvSpPr/>
            <p:nvPr/>
          </p:nvSpPr>
          <p:spPr>
            <a:xfrm rot="15370200">
              <a:off x="-172800" y="4200120"/>
              <a:ext cx="3227400" cy="287280"/>
            </a:xfrm>
            <a:prstGeom prst="rightArrow">
              <a:avLst>
                <a:gd name="adj1" fmla="val 50000"/>
                <a:gd name="adj2" fmla="val 49982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0" name="Right Arrow 34"/>
            <p:cNvSpPr/>
            <p:nvPr/>
          </p:nvSpPr>
          <p:spPr>
            <a:xfrm rot="17493000">
              <a:off x="2616120" y="4916160"/>
              <a:ext cx="2454120" cy="288720"/>
            </a:xfrm>
            <a:prstGeom prst="rightArrow">
              <a:avLst>
                <a:gd name="adj1" fmla="val 50000"/>
                <a:gd name="adj2" fmla="val 50016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" name="Right Arrow 36"/>
            <p:cNvSpPr/>
            <p:nvPr/>
          </p:nvSpPr>
          <p:spPr>
            <a:xfrm>
              <a:off x="1979640" y="3867120"/>
              <a:ext cx="2016000" cy="28728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" name="Right Arrow 37"/>
            <p:cNvSpPr/>
            <p:nvPr/>
          </p:nvSpPr>
          <p:spPr>
            <a:xfrm>
              <a:off x="4500720" y="3578400"/>
              <a:ext cx="576000" cy="288720"/>
            </a:xfrm>
            <a:prstGeom prst="rightArrow">
              <a:avLst>
                <a:gd name="adj1" fmla="val 50000"/>
                <a:gd name="adj2" fmla="val 5002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3" name="Right Arrow 38"/>
            <p:cNvSpPr/>
            <p:nvPr/>
          </p:nvSpPr>
          <p:spPr>
            <a:xfrm rot="1144800">
              <a:off x="1171080" y="3038400"/>
              <a:ext cx="2905200" cy="269640"/>
            </a:xfrm>
            <a:prstGeom prst="rightArrow">
              <a:avLst>
                <a:gd name="adj1" fmla="val 50000"/>
                <a:gd name="adj2" fmla="val 50031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4" name="Right Arrow 39"/>
            <p:cNvSpPr/>
            <p:nvPr/>
          </p:nvSpPr>
          <p:spPr>
            <a:xfrm>
              <a:off x="5148360" y="2641680"/>
              <a:ext cx="2808360" cy="288720"/>
            </a:xfrm>
            <a:prstGeom prst="rightArrow">
              <a:avLst>
                <a:gd name="adj1" fmla="val 50000"/>
                <a:gd name="adj2" fmla="val 50031"/>
              </a:avLst>
            </a:prstGeom>
            <a:solidFill>
              <a:srgbClr val="9bbb59"/>
            </a:solidFill>
            <a:ln w="255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" name="Rectangle 40"/>
            <p:cNvSpPr/>
            <p:nvPr/>
          </p:nvSpPr>
          <p:spPr>
            <a:xfrm>
              <a:off x="7525080" y="4730760"/>
              <a:ext cx="1584360" cy="1800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" name="Right Arrow 41"/>
            <p:cNvSpPr/>
            <p:nvPr/>
          </p:nvSpPr>
          <p:spPr>
            <a:xfrm>
              <a:off x="5148360" y="5521320"/>
              <a:ext cx="2808360" cy="288720"/>
            </a:xfrm>
            <a:prstGeom prst="rightArrow">
              <a:avLst>
                <a:gd name="adj1" fmla="val 50000"/>
                <a:gd name="adj2" fmla="val 50031"/>
              </a:avLst>
            </a:prstGeom>
            <a:solidFill>
              <a:srgbClr val="9bbb59"/>
            </a:solidFill>
            <a:ln w="255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" name="TextBox 32"/>
            <p:cNvSpPr/>
            <p:nvPr/>
          </p:nvSpPr>
          <p:spPr>
            <a:xfrm>
              <a:off x="5724720" y="5162760"/>
              <a:ext cx="1008000" cy="368280"/>
            </a:xfrm>
            <a:prstGeom prst="rect">
              <a:avLst/>
            </a:prstGeom>
            <a:solidFill>
              <a:srgbClr val="9bbb59"/>
            </a:solidFill>
            <a:ln w="25560">
              <a:solidFill>
                <a:srgbClr val="4f62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Exports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MY" sz="4000" spc="-1" strike="noStrike">
                <a:solidFill>
                  <a:srgbClr val="000000"/>
                </a:solidFill>
                <a:latin typeface="Arial"/>
              </a:rPr>
              <a:t>Cluster of Manufacturing and Manufacturing related servi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Group 3"/>
          <p:cNvGrpSpPr/>
          <p:nvPr/>
        </p:nvGrpSpPr>
        <p:grpSpPr>
          <a:xfrm>
            <a:off x="228600" y="1752480"/>
            <a:ext cx="8686800" cy="4648320"/>
            <a:chOff x="228600" y="1752480"/>
            <a:chExt cx="8686800" cy="4648320"/>
          </a:xfrm>
        </p:grpSpPr>
        <p:sp>
          <p:nvSpPr>
            <p:cNvPr id="81" name="Rectangle 22"/>
            <p:cNvSpPr/>
            <p:nvPr/>
          </p:nvSpPr>
          <p:spPr>
            <a:xfrm>
              <a:off x="2895480" y="3733560"/>
              <a:ext cx="1523880" cy="9144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Manufacturer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" name="Rectangle 23"/>
            <p:cNvSpPr/>
            <p:nvPr/>
          </p:nvSpPr>
          <p:spPr>
            <a:xfrm>
              <a:off x="228600" y="3695760"/>
              <a:ext cx="2133360" cy="99036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rts &amp; Components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(platter, drive bay, logic board, &amp; etc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3" name="Rectangle 24"/>
            <p:cNvSpPr/>
            <p:nvPr/>
          </p:nvSpPr>
          <p:spPr>
            <a:xfrm>
              <a:off x="4724280" y="3886200"/>
              <a:ext cx="1600200" cy="60948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End Product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(Hard Disk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4" name="Rectangle 25"/>
            <p:cNvSpPr/>
            <p:nvPr/>
          </p:nvSpPr>
          <p:spPr>
            <a:xfrm>
              <a:off x="6782040" y="4267080"/>
              <a:ext cx="2133360" cy="68580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Computers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(e.g. Dell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5" name="Rectangle 26"/>
            <p:cNvSpPr/>
            <p:nvPr/>
          </p:nvSpPr>
          <p:spPr>
            <a:xfrm>
              <a:off x="6782040" y="3276360"/>
              <a:ext cx="2133360" cy="76176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Video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(e.g. Syabas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6" name="Rectangle 27"/>
            <p:cNvSpPr/>
            <p:nvPr/>
          </p:nvSpPr>
          <p:spPr>
            <a:xfrm>
              <a:off x="5334120" y="5257800"/>
              <a:ext cx="2209680" cy="914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Logistics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(Freight Forwarder &amp;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Transportation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7" name="Rectangle 28"/>
            <p:cNvSpPr/>
            <p:nvPr/>
          </p:nvSpPr>
          <p:spPr>
            <a:xfrm>
              <a:off x="3733920" y="2361960"/>
              <a:ext cx="1600200" cy="609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ckaging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8" name="Rectangle 29"/>
            <p:cNvSpPr/>
            <p:nvPr/>
          </p:nvSpPr>
          <p:spPr>
            <a:xfrm>
              <a:off x="1828800" y="5257800"/>
              <a:ext cx="1600200" cy="11430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R &amp; D &amp; ICT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&amp; Design Services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89" name="AutoShape 30"/>
            <p:cNvCxnSpPr>
              <a:stCxn id="82" idx="3"/>
              <a:endCxn id="81" idx="1"/>
            </p:cNvCxnSpPr>
            <p:nvPr/>
          </p:nvCxnSpPr>
          <p:spPr>
            <a:xfrm>
              <a:off x="2361600" y="4190760"/>
              <a:ext cx="5338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AutoShape 31"/>
            <p:cNvCxnSpPr>
              <a:stCxn id="81" idx="3"/>
              <a:endCxn id="83" idx="1"/>
            </p:cNvCxnSpPr>
            <p:nvPr/>
          </p:nvCxnSpPr>
          <p:spPr>
            <a:xfrm>
              <a:off x="4419720" y="4190760"/>
              <a:ext cx="3052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AutoShape 32"/>
            <p:cNvCxnSpPr>
              <a:stCxn id="83" idx="3"/>
              <a:endCxn id="85" idx="1"/>
            </p:cNvCxnSpPr>
            <p:nvPr/>
          </p:nvCxnSpPr>
          <p:spPr>
            <a:xfrm flipV="1">
              <a:off x="6324840" y="3656880"/>
              <a:ext cx="457920" cy="53388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2" name="AutoShape 33"/>
            <p:cNvCxnSpPr>
              <a:stCxn id="83" idx="3"/>
              <a:endCxn id="84" idx="1"/>
            </p:cNvCxnSpPr>
            <p:nvPr/>
          </p:nvCxnSpPr>
          <p:spPr>
            <a:xfrm>
              <a:off x="6324840" y="4191120"/>
              <a:ext cx="457920" cy="419760"/>
            </a:xfrm>
            <a:prstGeom prst="bentConnector3">
              <a:avLst>
                <a:gd name="adj1" fmla="val 4996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3" name="AutoShape 34"/>
            <p:cNvCxnSpPr>
              <a:stCxn id="87" idx="2"/>
            </p:cNvCxnSpPr>
            <p:nvPr/>
          </p:nvCxnSpPr>
          <p:spPr>
            <a:xfrm>
              <a:off x="4533480" y="2971440"/>
              <a:ext cx="1080" cy="12200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" name="AutoShape 35"/>
            <p:cNvCxnSpPr>
              <a:stCxn id="86" idx="0"/>
            </p:cNvCxnSpPr>
            <p:nvPr/>
          </p:nvCxnSpPr>
          <p:spPr>
            <a:xfrm flipV="1">
              <a:off x="6438600" y="4190400"/>
              <a:ext cx="1080" cy="1067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" name="Rectangle 36"/>
            <p:cNvSpPr/>
            <p:nvPr/>
          </p:nvSpPr>
          <p:spPr>
            <a:xfrm>
              <a:off x="1981080" y="1752480"/>
              <a:ext cx="1600200" cy="137160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Business Services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(Financial, recruitment, insurance)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" name="Rectangle 37"/>
            <p:cNvSpPr/>
            <p:nvPr/>
          </p:nvSpPr>
          <p:spPr>
            <a:xfrm>
              <a:off x="3581280" y="5257800"/>
              <a:ext cx="1523880" cy="609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Engineering Support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cxnSp>
          <p:nvCxnSpPr>
            <p:cNvPr id="97" name="AutoShape 38"/>
            <p:cNvCxnSpPr>
              <a:stCxn id="96" idx="0"/>
              <a:endCxn id="81" idx="2"/>
            </p:cNvCxnSpPr>
            <p:nvPr/>
          </p:nvCxnSpPr>
          <p:spPr>
            <a:xfrm flipV="1" rot="16200000">
              <a:off x="3695040" y="4609440"/>
              <a:ext cx="610200" cy="68652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8" name="AutoShape 39"/>
            <p:cNvCxnSpPr>
              <a:stCxn id="95" idx="2"/>
              <a:endCxn id="81" idx="0"/>
            </p:cNvCxnSpPr>
            <p:nvPr/>
          </p:nvCxnSpPr>
          <p:spPr>
            <a:xfrm flipH="1" rot="16200000">
              <a:off x="2914560" y="2990160"/>
              <a:ext cx="610200" cy="8769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9" name="AutoShape 40"/>
            <p:cNvCxnSpPr>
              <a:stCxn id="88" idx="0"/>
              <a:endCxn id="81" idx="2"/>
            </p:cNvCxnSpPr>
            <p:nvPr/>
          </p:nvCxnSpPr>
          <p:spPr>
            <a:xfrm flipH="1" flipV="1" rot="5400000">
              <a:off x="2837520" y="4438440"/>
              <a:ext cx="610200" cy="10288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4 major s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: Company Information: background &amp; export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6676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 get some information of the company. Questions include basic information such as year of establishment, headcount in the company and main product sold, export share, &amp;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66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I: Procurement and Cert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6676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o get information on company’s businesses, basically on procurement, sourcing origin and adherence to internationally recognized accreditations such as ISO standards and other certification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66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II: Chemicals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6676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centrate mainly on the management of chemicals in products, level of understanding towards certain labeling of chemicals and how company adapts to environmental (&amp; other) regulations or requirement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66760">
              <a:lnSpc>
                <a:spcPct val="9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: Sensitiv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6720" indent="-26676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nancial information such as share of asset, operating costs and sales trend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ocation of Industrial P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ind park map"/>
          <p:cNvPicPr/>
          <p:nvPr/>
        </p:nvPicPr>
        <p:blipFill>
          <a:blip r:embed="rId1"/>
          <a:stretch/>
        </p:blipFill>
        <p:spPr>
          <a:xfrm>
            <a:off x="128520" y="838080"/>
            <a:ext cx="887904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0" y="622440"/>
          <a:ext cx="9144000" cy="6072120"/>
        </p:xfrm>
        <a:graphic>
          <a:graphicData uri="http://schemas.openxmlformats.org/drawingml/2006/table">
            <a:tbl>
              <a:tblPr/>
              <a:tblGrid>
                <a:gridCol w="4149720"/>
                <a:gridCol w="808200"/>
                <a:gridCol w="809640"/>
                <a:gridCol w="884160"/>
                <a:gridCol w="955440"/>
                <a:gridCol w="698760"/>
                <a:gridCol w="838080"/>
              </a:tblGrid>
              <a:tr h="245160">
                <a:tc rowSpan="2"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Manufacturing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mployment Size of Fir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Work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-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54720" marR="5472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-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1-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&gt; 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ir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160">
                <a:tc>
                  <a:txBody>
                    <a:bodyPr lIns="54720" rIns="5472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abricated Metal Produ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,5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54720" rIns="5472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utomation/Machinery/Precision Tool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4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6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,9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245160">
                <a:tc>
                  <a:txBody>
                    <a:bodyPr lIns="54720" rIns="5472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Electronics/Electri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6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2,9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520">
                <a:tc>
                  <a:txBody>
                    <a:bodyPr lIns="54720" rIns="5472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ood Process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,59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245160">
                <a:tc>
                  <a:txBody>
                    <a:bodyPr lIns="54720" rIns="5472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lastics &amp; Plastics Produ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,0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520">
                <a:tc>
                  <a:txBody>
                    <a:bodyPr lIns="54720" rIns="5472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asic Iron &amp; Steel, Non-ferrous Meta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7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,1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245160">
                <a:tc>
                  <a:txBody>
                    <a:bodyPr lIns="54720" rIns="5472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Chemicals/Fertiliz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,78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54720" rIns="5472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Pulp &amp; Pap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,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245520">
                <a:tc>
                  <a:txBody>
                    <a:bodyPr lIns="54720" rIns="5472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extile &amp; Appar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,03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54720" rIns="5472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Agro-based Production/Process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245160">
                <a:tc>
                  <a:txBody>
                    <a:bodyPr lIns="54720" rIns="5472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Furniture (Wood/Metal Bas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8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5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54720" rIns="5472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Gold Jewelle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6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6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245520">
                <a:tc>
                  <a:txBody>
                    <a:bodyPr lIns="54720" rIns="5472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Biotech/Medical Equipmt/Pharmaceutic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6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54720" rIns="5472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ransport Equip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8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4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245160">
                <a:tc>
                  <a:txBody>
                    <a:bodyPr lIns="54720" rIns="5472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on-metallic Mineral Produ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1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3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520">
                <a:tc>
                  <a:txBody>
                    <a:bodyPr lIns="54720" rIns="5472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 Manufactu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4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,2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245160">
                <a:tc>
                  <a:txBody>
                    <a:bodyPr lIns="54720" rIns="5472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宋体"/>
                        </a:rPr>
                        <a:t>Manufacturing Related Service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MY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520">
                <a:tc>
                  <a:txBody>
                    <a:bodyPr lIns="54720" rIns="5472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Logisti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8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,4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245160">
                <a:tc>
                  <a:txBody>
                    <a:bodyPr lIns="54720" rIns="5472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Multimedia/IC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0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2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54720" rIns="5472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Other Manufacturing Related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15.0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</a:tr>
              <a:tr h="245160">
                <a:tc>
                  <a:txBody>
                    <a:bodyPr lIns="54720" rIns="5472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Total (Percentag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9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5160">
                <a:tc>
                  <a:txBody>
                    <a:bodyPr lIns="54720" rIns="54720" tIns="0" bIns="0" anchor="t">
                      <a:noAutofit/>
                    </a:bodyPr>
                    <a:p>
                      <a:pPr marL="44280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Number of firms (N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,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,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  <a:tc>
                  <a:txBody>
                    <a:bodyPr lIns="54720" rIns="5472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6,8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54720" marR="547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3dfee"/>
                    </a:solidFill>
                  </a:tcPr>
                </a:tc>
              </a:tr>
            </a:tbl>
          </a:graphicData>
        </a:graphic>
      </p:graphicFrame>
      <p:sp>
        <p:nvSpPr>
          <p:cNvPr id="105" name="TextBox 4"/>
          <p:cNvSpPr/>
          <p:nvPr/>
        </p:nvSpPr>
        <p:spPr>
          <a:xfrm>
            <a:off x="2827440" y="152280"/>
            <a:ext cx="34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nang Industrial Survey 201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: Product-related Environmental Reg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6019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y Reg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 La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&amp;S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Oeko-tex 100 (texti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California Proposition 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ELV, E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4114800" y="2514600"/>
            <a:ext cx="502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HS Global Harmonised 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act of PRERs on firm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U: Protects consum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ia: affects markets, costs, suppli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NCs &amp; PRERs and also SMEs &amp; PR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6" descr="https://encrypted-tbn2.gstatic.com/images?q=tbn:ANd9GcSAIYvni4d0MVNX9t5gip_IgGYUB1L2-hXWJ18Ap1UJVPzg_zBP"/>
          <p:cNvPicPr/>
          <p:nvPr/>
        </p:nvPicPr>
        <p:blipFill>
          <a:blip r:embed="rId1"/>
          <a:stretch/>
        </p:blipFill>
        <p:spPr>
          <a:xfrm>
            <a:off x="5562720" y="571500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http://www.coastlabel.com/wp-content/uploads/2013/06/REACH-Logo.jpg"/>
          <p:cNvPicPr/>
          <p:nvPr/>
        </p:nvPicPr>
        <p:blipFill>
          <a:blip r:embed="rId2"/>
          <a:stretch/>
        </p:blipFill>
        <p:spPr>
          <a:xfrm>
            <a:off x="6477120" y="5543640"/>
            <a:ext cx="1066680" cy="123804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10"/>
          <p:cNvSpPr/>
          <p:nvPr/>
        </p:nvSpPr>
        <p:spPr>
          <a:xfrm>
            <a:off x="17316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Picture 12" descr="https://www.oeko-tex.com/media/oeko_tex/image_1/oets_100/label_templates/OEKO_100_RGB_ENGLISH.jpg"/>
          <p:cNvPicPr/>
          <p:nvPr/>
        </p:nvPicPr>
        <p:blipFill>
          <a:blip r:embed="rId3"/>
          <a:stretch/>
        </p:blipFill>
        <p:spPr>
          <a:xfrm>
            <a:off x="7543800" y="5622840"/>
            <a:ext cx="1523880" cy="10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7T04:41:15Z</dcterms:created>
  <dc:creator>Guest</dc:creator>
  <dc:description/>
  <dc:language>en-US</dc:language>
  <cp:lastModifiedBy>Chang Yii Tan_2</cp:lastModifiedBy>
  <dcterms:modified xsi:type="dcterms:W3CDTF">2014-02-15T21:54:13Z</dcterms:modified>
  <cp:revision>145</cp:revision>
  <dc:subject/>
  <dc:title>Slide 1</dc:title>
</cp:coreProperties>
</file>