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1376-4722-41BB-8D25-BF76AC8A7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35EE-E289-4B7E-9B8F-0B85D62F4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35FA-FF77-41EF-81BD-FCBEEDF6F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C9AC-3BE5-4AC2-AC59-D6C7C4E8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0B4A-D382-4844-B86F-AA5DE9CE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0F1F-C159-470E-95D2-42ACD6EE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AF75-1195-414E-83B8-E04DDA45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EA7-5C24-4E8E-A217-F656C8BC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2DE-3756-45BB-8D1A-48A576FE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E64-BCFA-4B57-862A-25550600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78C8-6880-40CA-BCE5-02E436B2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D6D-0D0A-4746-8A6F-F5ABA318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552F-2A2E-42EA-A8E1-956BC6139B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5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9356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63"/>
          <p:cNvGrpSpPr/>
          <p:nvPr/>
        </p:nvGrpSpPr>
        <p:grpSpPr>
          <a:xfrm>
            <a:off x="182520" y="92160"/>
            <a:ext cx="1364760" cy="312480"/>
            <a:chOff x="182520" y="92160"/>
            <a:chExt cx="1364760" cy="312480"/>
          </a:xfrm>
        </p:grpSpPr>
        <p:sp>
          <p:nvSpPr>
            <p:cNvPr id="7" name="Freeform 54"/>
            <p:cNvSpPr/>
            <p:nvPr/>
          </p:nvSpPr>
          <p:spPr>
            <a:xfrm>
              <a:off x="182520" y="92160"/>
              <a:ext cx="113760" cy="2372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40" h="82">
                  <a:moveTo>
                    <a:pt x="1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2" y="5"/>
                    <a:pt x="8" y="5"/>
                  </a:cubicBezTo>
                  <a:cubicBezTo>
                    <a:pt x="11" y="5"/>
                    <a:pt x="14" y="9"/>
                    <a:pt x="14" y="11"/>
                  </a:cubicBezTo>
                  <a:cubicBezTo>
                    <a:pt x="14" y="15"/>
                    <a:pt x="14" y="67"/>
                    <a:pt x="14" y="72"/>
                  </a:cubicBezTo>
                  <a:cubicBezTo>
                    <a:pt x="14" y="75"/>
                    <a:pt x="11" y="77"/>
                    <a:pt x="8" y="77"/>
                  </a:cubicBezTo>
                  <a:cubicBezTo>
                    <a:pt x="5" y="77"/>
                    <a:pt x="1" y="77"/>
                    <a:pt x="1" y="77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17" y="82"/>
                    <a:pt x="17" y="82"/>
                    <a:pt x="17" y="82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39" y="82"/>
                    <a:pt x="39" y="82"/>
                    <a:pt x="39" y="82"/>
                  </a:cubicBezTo>
                  <a:cubicBezTo>
                    <a:pt x="39" y="77"/>
                    <a:pt x="39" y="77"/>
                    <a:pt x="39" y="77"/>
                  </a:cubicBezTo>
                  <a:cubicBezTo>
                    <a:pt x="39" y="77"/>
                    <a:pt x="35" y="77"/>
                    <a:pt x="31" y="77"/>
                  </a:cubicBezTo>
                  <a:cubicBezTo>
                    <a:pt x="28" y="77"/>
                    <a:pt x="26" y="75"/>
                    <a:pt x="26" y="72"/>
                  </a:cubicBezTo>
                  <a:cubicBezTo>
                    <a:pt x="26" y="67"/>
                    <a:pt x="26" y="15"/>
                    <a:pt x="26" y="11"/>
                  </a:cubicBezTo>
                  <a:cubicBezTo>
                    <a:pt x="26" y="9"/>
                    <a:pt x="29" y="5"/>
                    <a:pt x="31" y="5"/>
                  </a:cubicBezTo>
                  <a:cubicBezTo>
                    <a:pt x="38" y="5"/>
                    <a:pt x="40" y="5"/>
                    <a:pt x="40" y="5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55"/>
            <p:cNvSpPr/>
            <p:nvPr/>
          </p:nvSpPr>
          <p:spPr>
            <a:xfrm>
              <a:off x="299160" y="120960"/>
              <a:ext cx="210960" cy="209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4" h="72">
                  <a:moveTo>
                    <a:pt x="74" y="37"/>
                  </a:moveTo>
                  <a:cubicBezTo>
                    <a:pt x="74" y="16"/>
                    <a:pt x="55" y="0"/>
                    <a:pt x="44" y="0"/>
                  </a:cubicBezTo>
                  <a:cubicBezTo>
                    <a:pt x="33" y="0"/>
                    <a:pt x="2" y="0"/>
                    <a:pt x="2" y="0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8" y="5"/>
                    <a:pt x="11" y="5"/>
                  </a:cubicBezTo>
                  <a:cubicBezTo>
                    <a:pt x="14" y="5"/>
                    <a:pt x="15" y="7"/>
                    <a:pt x="15" y="10"/>
                  </a:cubicBezTo>
                  <a:cubicBezTo>
                    <a:pt x="15" y="14"/>
                    <a:pt x="15" y="56"/>
                    <a:pt x="15" y="62"/>
                  </a:cubicBezTo>
                  <a:cubicBezTo>
                    <a:pt x="15" y="68"/>
                    <a:pt x="13" y="67"/>
                    <a:pt x="9" y="67"/>
                  </a:cubicBezTo>
                  <a:cubicBezTo>
                    <a:pt x="6" y="67"/>
                    <a:pt x="0" y="67"/>
                    <a:pt x="0" y="67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28" y="72"/>
                    <a:pt x="42" y="72"/>
                  </a:cubicBezTo>
                  <a:cubicBezTo>
                    <a:pt x="56" y="72"/>
                    <a:pt x="74" y="57"/>
                    <a:pt x="74" y="37"/>
                  </a:cubicBezTo>
                  <a:close/>
                  <a:moveTo>
                    <a:pt x="40" y="67"/>
                  </a:moveTo>
                  <a:cubicBezTo>
                    <a:pt x="32" y="67"/>
                    <a:pt x="26" y="67"/>
                    <a:pt x="26" y="6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31" y="6"/>
                    <a:pt x="39" y="6"/>
                  </a:cubicBezTo>
                  <a:cubicBezTo>
                    <a:pt x="50" y="6"/>
                    <a:pt x="64" y="20"/>
                    <a:pt x="64" y="35"/>
                  </a:cubicBezTo>
                  <a:cubicBezTo>
                    <a:pt x="64" y="51"/>
                    <a:pt x="50" y="67"/>
                    <a:pt x="40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56"/>
            <p:cNvSpPr/>
            <p:nvPr/>
          </p:nvSpPr>
          <p:spPr>
            <a:xfrm>
              <a:off x="477360" y="120960"/>
              <a:ext cx="223560" cy="2124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78" h="73">
                  <a:moveTo>
                    <a:pt x="76" y="56"/>
                  </a:moveTo>
                  <a:cubicBezTo>
                    <a:pt x="76" y="56"/>
                    <a:pt x="62" y="67"/>
                    <a:pt x="56" y="67"/>
                  </a:cubicBezTo>
                  <a:cubicBezTo>
                    <a:pt x="50" y="67"/>
                    <a:pt x="27" y="67"/>
                    <a:pt x="27" y="6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38" y="37"/>
                    <a:pt x="42" y="37"/>
                  </a:cubicBezTo>
                  <a:cubicBezTo>
                    <a:pt x="46" y="37"/>
                    <a:pt x="46" y="40"/>
                    <a:pt x="46" y="42"/>
                  </a:cubicBezTo>
                  <a:cubicBezTo>
                    <a:pt x="46" y="44"/>
                    <a:pt x="46" y="48"/>
                    <a:pt x="46" y="48"/>
                  </a:cubicBezTo>
                  <a:cubicBezTo>
                    <a:pt x="51" y="48"/>
                    <a:pt x="51" y="48"/>
                    <a:pt x="51" y="48"/>
                  </a:cubicBezTo>
                  <a:cubicBezTo>
                    <a:pt x="51" y="21"/>
                    <a:pt x="51" y="21"/>
                    <a:pt x="51" y="21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46" y="21"/>
                    <a:pt x="46" y="25"/>
                    <a:pt x="46" y="27"/>
                  </a:cubicBezTo>
                  <a:cubicBezTo>
                    <a:pt x="46" y="30"/>
                    <a:pt x="43" y="32"/>
                    <a:pt x="42" y="32"/>
                  </a:cubicBezTo>
                  <a:cubicBezTo>
                    <a:pt x="40" y="32"/>
                    <a:pt x="27" y="32"/>
                    <a:pt x="27" y="32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40" y="5"/>
                    <a:pt x="45" y="5"/>
                  </a:cubicBezTo>
                  <a:cubicBezTo>
                    <a:pt x="49" y="5"/>
                    <a:pt x="52" y="13"/>
                    <a:pt x="52" y="16"/>
                  </a:cubicBezTo>
                  <a:cubicBezTo>
                    <a:pt x="52" y="19"/>
                    <a:pt x="55" y="16"/>
                    <a:pt x="55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9" y="5"/>
                    <a:pt x="12" y="5"/>
                  </a:cubicBezTo>
                  <a:cubicBezTo>
                    <a:pt x="15" y="5"/>
                    <a:pt x="16" y="7"/>
                    <a:pt x="16" y="9"/>
                  </a:cubicBezTo>
                  <a:cubicBezTo>
                    <a:pt x="16" y="11"/>
                    <a:pt x="16" y="59"/>
                    <a:pt x="16" y="62"/>
                  </a:cubicBezTo>
                  <a:cubicBezTo>
                    <a:pt x="16" y="65"/>
                    <a:pt x="14" y="68"/>
                    <a:pt x="11" y="68"/>
                  </a:cubicBezTo>
                  <a:cubicBezTo>
                    <a:pt x="8" y="68"/>
                    <a:pt x="0" y="68"/>
                    <a:pt x="0" y="68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55" y="73"/>
                    <a:pt x="59" y="73"/>
                  </a:cubicBezTo>
                  <a:cubicBezTo>
                    <a:pt x="62" y="73"/>
                    <a:pt x="78" y="59"/>
                    <a:pt x="78" y="59"/>
                  </a:cubicBezTo>
                  <a:lnTo>
                    <a:pt x="7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57"/>
            <p:cNvSpPr/>
            <p:nvPr/>
          </p:nvSpPr>
          <p:spPr>
            <a:xfrm>
              <a:off x="673560" y="92160"/>
              <a:ext cx="384120" cy="31248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33" h="107">
                  <a:moveTo>
                    <a:pt x="133" y="69"/>
                  </a:move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17" y="77"/>
                    <a:pt x="111" y="77"/>
                  </a:cubicBezTo>
                  <a:cubicBezTo>
                    <a:pt x="105" y="77"/>
                    <a:pt x="82" y="77"/>
                    <a:pt x="82" y="77"/>
                  </a:cubicBezTo>
                  <a:cubicBezTo>
                    <a:pt x="82" y="47"/>
                    <a:pt x="82" y="47"/>
                    <a:pt x="82" y="47"/>
                  </a:cubicBezTo>
                  <a:cubicBezTo>
                    <a:pt x="82" y="47"/>
                    <a:pt x="92" y="47"/>
                    <a:pt x="97" y="47"/>
                  </a:cubicBezTo>
                  <a:cubicBezTo>
                    <a:pt x="101" y="47"/>
                    <a:pt x="101" y="50"/>
                    <a:pt x="101" y="52"/>
                  </a:cubicBezTo>
                  <a:cubicBezTo>
                    <a:pt x="101" y="54"/>
                    <a:pt x="101" y="58"/>
                    <a:pt x="101" y="58"/>
                  </a:cubicBezTo>
                  <a:cubicBezTo>
                    <a:pt x="106" y="58"/>
                    <a:pt x="106" y="58"/>
                    <a:pt x="106" y="58"/>
                  </a:cubicBezTo>
                  <a:cubicBezTo>
                    <a:pt x="106" y="31"/>
                    <a:pt x="106" y="31"/>
                    <a:pt x="106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1" y="31"/>
                    <a:pt x="101" y="35"/>
                    <a:pt x="101" y="37"/>
                  </a:cubicBezTo>
                  <a:cubicBezTo>
                    <a:pt x="101" y="40"/>
                    <a:pt x="98" y="42"/>
                    <a:pt x="97" y="42"/>
                  </a:cubicBezTo>
                  <a:cubicBezTo>
                    <a:pt x="95" y="42"/>
                    <a:pt x="82" y="42"/>
                    <a:pt x="82" y="42"/>
                  </a:cubicBezTo>
                  <a:cubicBezTo>
                    <a:pt x="82" y="15"/>
                    <a:pt x="82" y="15"/>
                    <a:pt x="82" y="15"/>
                  </a:cubicBezTo>
                  <a:cubicBezTo>
                    <a:pt x="82" y="15"/>
                    <a:pt x="95" y="15"/>
                    <a:pt x="100" y="15"/>
                  </a:cubicBezTo>
                  <a:cubicBezTo>
                    <a:pt x="104" y="15"/>
                    <a:pt x="107" y="23"/>
                    <a:pt x="107" y="26"/>
                  </a:cubicBezTo>
                  <a:cubicBezTo>
                    <a:pt x="107" y="29"/>
                    <a:pt x="110" y="26"/>
                    <a:pt x="110" y="26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15"/>
                    <a:pt x="64" y="15"/>
                    <a:pt x="67" y="15"/>
                  </a:cubicBezTo>
                  <a:cubicBezTo>
                    <a:pt x="70" y="15"/>
                    <a:pt x="71" y="17"/>
                    <a:pt x="71" y="19"/>
                  </a:cubicBezTo>
                  <a:cubicBezTo>
                    <a:pt x="71" y="21"/>
                    <a:pt x="71" y="69"/>
                    <a:pt x="71" y="72"/>
                  </a:cubicBezTo>
                  <a:cubicBezTo>
                    <a:pt x="71" y="75"/>
                    <a:pt x="69" y="78"/>
                    <a:pt x="66" y="78"/>
                  </a:cubicBezTo>
                  <a:cubicBezTo>
                    <a:pt x="64" y="78"/>
                    <a:pt x="52" y="78"/>
                    <a:pt x="45" y="78"/>
                  </a:cubicBezTo>
                  <a:cubicBezTo>
                    <a:pt x="46" y="73"/>
                    <a:pt x="47" y="69"/>
                    <a:pt x="47" y="65"/>
                  </a:cubicBezTo>
                  <a:cubicBezTo>
                    <a:pt x="47" y="57"/>
                    <a:pt x="47" y="15"/>
                    <a:pt x="47" y="12"/>
                  </a:cubicBezTo>
                  <a:cubicBezTo>
                    <a:pt x="47" y="9"/>
                    <a:pt x="50" y="6"/>
                    <a:pt x="53" y="6"/>
                  </a:cubicBezTo>
                  <a:cubicBezTo>
                    <a:pt x="57" y="6"/>
                    <a:pt x="62" y="6"/>
                    <a:pt x="62" y="6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6"/>
                    <a:pt x="26" y="6"/>
                    <a:pt x="29" y="6"/>
                  </a:cubicBezTo>
                  <a:cubicBezTo>
                    <a:pt x="32" y="6"/>
                    <a:pt x="35" y="9"/>
                    <a:pt x="35" y="12"/>
                  </a:cubicBezTo>
                  <a:cubicBezTo>
                    <a:pt x="35" y="16"/>
                    <a:pt x="35" y="35"/>
                    <a:pt x="35" y="66"/>
                  </a:cubicBezTo>
                  <a:cubicBezTo>
                    <a:pt x="35" y="101"/>
                    <a:pt x="0" y="103"/>
                    <a:pt x="0" y="103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22" y="107"/>
                    <a:pt x="36" y="97"/>
                    <a:pt x="43" y="83"/>
                  </a:cubicBezTo>
                  <a:cubicBezTo>
                    <a:pt x="58" y="83"/>
                    <a:pt x="111" y="83"/>
                    <a:pt x="114" y="83"/>
                  </a:cubicBezTo>
                  <a:cubicBezTo>
                    <a:pt x="117" y="83"/>
                    <a:pt x="133" y="69"/>
                    <a:pt x="133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683640" y="216360"/>
              <a:ext cx="50760" cy="1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59"/>
            <p:cNvSpPr/>
            <p:nvPr/>
          </p:nvSpPr>
          <p:spPr>
            <a:xfrm>
              <a:off x="1007280" y="120960"/>
              <a:ext cx="157320" cy="2095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" h="72">
                  <a:moveTo>
                    <a:pt x="41" y="4"/>
                  </a:moveTo>
                  <a:cubicBezTo>
                    <a:pt x="48" y="4"/>
                    <a:pt x="51" y="17"/>
                    <a:pt x="5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7" y="4"/>
                    <a:pt x="14" y="4"/>
                  </a:cubicBezTo>
                  <a:cubicBezTo>
                    <a:pt x="20" y="4"/>
                    <a:pt x="22" y="4"/>
                    <a:pt x="22" y="4"/>
                  </a:cubicBezTo>
                  <a:cubicBezTo>
                    <a:pt x="22" y="4"/>
                    <a:pt x="22" y="59"/>
                    <a:pt x="22" y="63"/>
                  </a:cubicBezTo>
                  <a:cubicBezTo>
                    <a:pt x="22" y="67"/>
                    <a:pt x="21" y="68"/>
                    <a:pt x="18" y="68"/>
                  </a:cubicBezTo>
                  <a:cubicBezTo>
                    <a:pt x="15" y="68"/>
                    <a:pt x="8" y="68"/>
                    <a:pt x="8" y="68"/>
                  </a:cubicBezTo>
                  <a:cubicBezTo>
                    <a:pt x="8" y="72"/>
                    <a:pt x="8" y="72"/>
                    <a:pt x="8" y="72"/>
                  </a:cubicBezTo>
                  <a:cubicBezTo>
                    <a:pt x="27" y="72"/>
                    <a:pt x="27" y="72"/>
                    <a:pt x="27" y="72"/>
                  </a:cubicBezTo>
                  <a:cubicBezTo>
                    <a:pt x="30" y="72"/>
                    <a:pt x="30" y="72"/>
                    <a:pt x="30" y="72"/>
                  </a:cubicBezTo>
                  <a:cubicBezTo>
                    <a:pt x="47" y="72"/>
                    <a:pt x="47" y="72"/>
                    <a:pt x="47" y="72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7" y="68"/>
                    <a:pt x="40" y="68"/>
                    <a:pt x="37" y="68"/>
                  </a:cubicBezTo>
                  <a:cubicBezTo>
                    <a:pt x="34" y="68"/>
                    <a:pt x="33" y="67"/>
                    <a:pt x="33" y="63"/>
                  </a:cubicBezTo>
                  <a:cubicBezTo>
                    <a:pt x="33" y="59"/>
                    <a:pt x="33" y="4"/>
                    <a:pt x="33" y="4"/>
                  </a:cubicBezTo>
                  <a:cubicBezTo>
                    <a:pt x="33" y="4"/>
                    <a:pt x="35" y="4"/>
                    <a:pt x="4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60"/>
            <p:cNvSpPr/>
            <p:nvPr/>
          </p:nvSpPr>
          <p:spPr>
            <a:xfrm>
              <a:off x="1161720" y="120960"/>
              <a:ext cx="385560" cy="2300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5" h="79">
                  <a:moveTo>
                    <a:pt x="100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5" y="0"/>
                    <a:pt x="65" y="14"/>
                    <a:pt x="65" y="36"/>
                  </a:cubicBezTo>
                  <a:cubicBezTo>
                    <a:pt x="65" y="57"/>
                    <a:pt x="82" y="71"/>
                    <a:pt x="99" y="72"/>
                  </a:cubicBezTo>
                  <a:cubicBezTo>
                    <a:pt x="99" y="72"/>
                    <a:pt x="99" y="72"/>
                    <a:pt x="99" y="72"/>
                  </a:cubicBezTo>
                  <a:cubicBezTo>
                    <a:pt x="99" y="72"/>
                    <a:pt x="100" y="72"/>
                    <a:pt x="100" y="72"/>
                  </a:cubicBezTo>
                  <a:cubicBezTo>
                    <a:pt x="101" y="72"/>
                    <a:pt x="101" y="72"/>
                    <a:pt x="101" y="72"/>
                  </a:cubicBezTo>
                  <a:cubicBezTo>
                    <a:pt x="101" y="72"/>
                    <a:pt x="101" y="72"/>
                    <a:pt x="101" y="72"/>
                  </a:cubicBezTo>
                  <a:cubicBezTo>
                    <a:pt x="102" y="72"/>
                    <a:pt x="102" y="72"/>
                    <a:pt x="103" y="72"/>
                  </a:cubicBezTo>
                  <a:cubicBezTo>
                    <a:pt x="100" y="74"/>
                    <a:pt x="95" y="75"/>
                    <a:pt x="87" y="75"/>
                  </a:cubicBezTo>
                  <a:cubicBezTo>
                    <a:pt x="70" y="75"/>
                    <a:pt x="38" y="37"/>
                    <a:pt x="38" y="37"/>
                  </a:cubicBezTo>
                  <a:cubicBezTo>
                    <a:pt x="38" y="37"/>
                    <a:pt x="56" y="36"/>
                    <a:pt x="56" y="17"/>
                  </a:cubicBezTo>
                  <a:cubicBezTo>
                    <a:pt x="56" y="11"/>
                    <a:pt x="51" y="0"/>
                    <a:pt x="38" y="0"/>
                  </a:cubicBezTo>
                  <a:cubicBezTo>
                    <a:pt x="26" y="0"/>
                    <a:pt x="1" y="0"/>
                    <a:pt x="1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5" y="4"/>
                    <a:pt x="8" y="4"/>
                  </a:cubicBezTo>
                  <a:cubicBezTo>
                    <a:pt x="11" y="4"/>
                    <a:pt x="13" y="6"/>
                    <a:pt x="13" y="9"/>
                  </a:cubicBezTo>
                  <a:cubicBezTo>
                    <a:pt x="13" y="12"/>
                    <a:pt x="13" y="62"/>
                    <a:pt x="13" y="64"/>
                  </a:cubicBezTo>
                  <a:cubicBezTo>
                    <a:pt x="13" y="66"/>
                    <a:pt x="11" y="68"/>
                    <a:pt x="8" y="68"/>
                  </a:cubicBezTo>
                  <a:cubicBezTo>
                    <a:pt x="6" y="68"/>
                    <a:pt x="0" y="68"/>
                    <a:pt x="0" y="68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35" y="72"/>
                    <a:pt x="35" y="72"/>
                    <a:pt x="35" y="72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0" y="68"/>
                    <a:pt x="28" y="68"/>
                  </a:cubicBezTo>
                  <a:cubicBezTo>
                    <a:pt x="26" y="68"/>
                    <a:pt x="23" y="66"/>
                    <a:pt x="23" y="63"/>
                  </a:cubicBezTo>
                  <a:cubicBezTo>
                    <a:pt x="23" y="61"/>
                    <a:pt x="23" y="37"/>
                    <a:pt x="23" y="37"/>
                  </a:cubicBezTo>
                  <a:cubicBezTo>
                    <a:pt x="23" y="37"/>
                    <a:pt x="62" y="79"/>
                    <a:pt x="86" y="79"/>
                  </a:cubicBezTo>
                  <a:cubicBezTo>
                    <a:pt x="103" y="79"/>
                    <a:pt x="111" y="74"/>
                    <a:pt x="119" y="66"/>
                  </a:cubicBezTo>
                  <a:cubicBezTo>
                    <a:pt x="119" y="66"/>
                    <a:pt x="119" y="66"/>
                    <a:pt x="119" y="66"/>
                  </a:cubicBezTo>
                  <a:cubicBezTo>
                    <a:pt x="128" y="60"/>
                    <a:pt x="135" y="49"/>
                    <a:pt x="135" y="36"/>
                  </a:cubicBezTo>
                  <a:cubicBezTo>
                    <a:pt x="135" y="14"/>
                    <a:pt x="115" y="0"/>
                    <a:pt x="100" y="0"/>
                  </a:cubicBezTo>
                  <a:close/>
                  <a:moveTo>
                    <a:pt x="23" y="32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9" y="5"/>
                    <a:pt x="34" y="5"/>
                  </a:cubicBezTo>
                  <a:cubicBezTo>
                    <a:pt x="40" y="5"/>
                    <a:pt x="45" y="12"/>
                    <a:pt x="45" y="18"/>
                  </a:cubicBezTo>
                  <a:cubicBezTo>
                    <a:pt x="45" y="23"/>
                    <a:pt x="40" y="32"/>
                    <a:pt x="35" y="32"/>
                  </a:cubicBezTo>
                  <a:cubicBezTo>
                    <a:pt x="29" y="32"/>
                    <a:pt x="23" y="32"/>
                    <a:pt x="23" y="32"/>
                  </a:cubicBezTo>
                  <a:close/>
                  <a:moveTo>
                    <a:pt x="101" y="67"/>
                  </a:moveTo>
                  <a:cubicBezTo>
                    <a:pt x="101" y="67"/>
                    <a:pt x="101" y="67"/>
                    <a:pt x="101" y="67"/>
                  </a:cubicBezTo>
                  <a:cubicBezTo>
                    <a:pt x="101" y="67"/>
                    <a:pt x="101" y="67"/>
                    <a:pt x="101" y="67"/>
                  </a:cubicBezTo>
                  <a:cubicBezTo>
                    <a:pt x="101" y="67"/>
                    <a:pt x="101" y="67"/>
                    <a:pt x="100" y="67"/>
                  </a:cubicBezTo>
                  <a:cubicBezTo>
                    <a:pt x="100" y="67"/>
                    <a:pt x="100" y="67"/>
                    <a:pt x="99" y="67"/>
                  </a:cubicBezTo>
                  <a:cubicBezTo>
                    <a:pt x="99" y="67"/>
                    <a:pt x="99" y="67"/>
                    <a:pt x="99" y="67"/>
                  </a:cubicBezTo>
                  <a:cubicBezTo>
                    <a:pt x="99" y="67"/>
                    <a:pt x="99" y="67"/>
                    <a:pt x="99" y="67"/>
                  </a:cubicBezTo>
                  <a:cubicBezTo>
                    <a:pt x="84" y="65"/>
                    <a:pt x="77" y="48"/>
                    <a:pt x="77" y="35"/>
                  </a:cubicBezTo>
                  <a:cubicBezTo>
                    <a:pt x="77" y="21"/>
                    <a:pt x="85" y="7"/>
                    <a:pt x="99" y="6"/>
                  </a:cubicBezTo>
                  <a:cubicBezTo>
                    <a:pt x="99" y="6"/>
                    <a:pt x="99" y="6"/>
                    <a:pt x="99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116" y="7"/>
                    <a:pt x="124" y="22"/>
                    <a:pt x="124" y="36"/>
                  </a:cubicBezTo>
                  <a:cubicBezTo>
                    <a:pt x="124" y="49"/>
                    <a:pt x="116" y="65"/>
                    <a:pt x="101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Line 61"/>
          <p:cNvSpPr/>
          <p:nvPr/>
        </p:nvSpPr>
        <p:spPr>
          <a:xfrm flipH="1">
            <a:off x="0" y="46044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62"/>
          <p:cNvSpPr/>
          <p:nvPr/>
        </p:nvSpPr>
        <p:spPr>
          <a:xfrm>
            <a:off x="6076800" y="150840"/>
            <a:ext cx="28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3192"/>
                </a:solidFill>
                <a:latin typeface="Arial"/>
                <a:ea typeface="Arial"/>
              </a:rPr>
              <a:t>Institute of Developing Economies, JE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ide.go.jp/English/Publish/Download/Dp/343.html" TargetMode="External"/><Relationship Id="rId4" Type="http://schemas.openxmlformats.org/officeDocument/2006/relationships/image" Target="../media/image2.png"/><Relationship Id="rId5" Type="http://schemas.openxmlformats.org/officeDocument/2006/relationships/hyperlink" Target="http://www.ide.go.jp/English/Publish/Download/Dp/383.html" TargetMode="External"/><Relationship Id="rId6" Type="http://schemas.openxmlformats.org/officeDocument/2006/relationships/image" Target="../media/image2.png"/><Relationship Id="rId7" Type="http://schemas.openxmlformats.org/officeDocument/2006/relationships/hyperlink" Target="http://www.ide.go.jp/Japanese/Publish/Download/PolicyBrief/IDE/07.html" TargetMode="External"/><Relationship Id="rId8" Type="http://schemas.openxmlformats.org/officeDocument/2006/relationships/image" Target="../media/image2.png"/><Relationship Id="rId9" Type="http://schemas.openxmlformats.org/officeDocument/2006/relationships/hyperlink" Target="http://www.ide.go.jp/Japanese/Publish/Download/PolicyBrief/IDE/07.html" TargetMode="External"/><Relationship Id="rId10" Type="http://schemas.openxmlformats.org/officeDocument/2006/relationships/image" Target="../media/image2.png"/><Relationship Id="rId11" Type="http://schemas.openxmlformats.org/officeDocument/2006/relationships/hyperlink" Target="http://www.ide.go.jp/Japanese/Publish/Download/PolicyBrief/IDE/07.html" TargetMode="External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F5626-3D03-4725-A5A5-E0B4B3F45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Survey Results in Penang, Malaysi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Feb 20, 2014</a:t>
            </a: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Penang, Malaysia</a:t>
            </a:r>
            <a:br>
              <a:rPr sz="2000"/>
            </a:b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073040" y="2997360"/>
            <a:ext cx="504036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stitute of Developing</a:t>
            </a:r>
            <a:r>
              <a:rPr b="0" lang="ja-JP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conomies </a:t>
            </a:r>
            <a:r>
              <a:rPr b="0" lang="ja-JP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DE), JETRO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sociate Senior Research Fello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tsuyo MICHID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tsuyo_Michida@ide.go.jp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" name="図 6" descr="SN3R0014_woname.jpg"/>
          <p:cNvPicPr/>
          <p:nvPr/>
        </p:nvPicPr>
        <p:blipFill>
          <a:blip r:embed="rId1"/>
          <a:stretch/>
        </p:blipFill>
        <p:spPr>
          <a:xfrm>
            <a:off x="611280" y="2637000"/>
            <a:ext cx="2176200" cy="2901960"/>
          </a:xfrm>
          <a:prstGeom prst="rect">
            <a:avLst/>
          </a:prstGeom>
          <a:ln w="0">
            <a:noFill/>
          </a:ln>
        </p:spPr>
      </p:pic>
      <p:pic>
        <p:nvPicPr>
          <p:cNvPr id="56" name="図 5" descr="SN3R0019.JPG"/>
          <p:cNvPicPr/>
          <p:nvPr/>
        </p:nvPicPr>
        <p:blipFill>
          <a:blip r:embed="rId2"/>
          <a:stretch/>
        </p:blipFill>
        <p:spPr>
          <a:xfrm>
            <a:off x="2268360" y="3789360"/>
            <a:ext cx="21751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Global Value Chains (GVC)</a:t>
            </a:r>
            <a:endParaRPr b="0" lang="en-US" sz="36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483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GVC firms are those that participate in global value chains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GVC organizes a range of activities related a product across multiple countrie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Our Vietnam case studies show that adaptation differ between GVC and non-GVC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  <a:ea typeface="Times New Roman"/>
              </a:rPr>
              <a:t>We pay attention to differences of firms that participate in GVC and those that do no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FBC3-8EFC-420D-8F7A-F85D9FCA2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6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24% of firms do not know which specific regulations they are meeting. Especially indirect exporters may not be fully aware. 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68360" y="2205000"/>
          <a:ext cx="8229600" cy="3676680"/>
        </p:xfrm>
        <a:graphic>
          <a:graphicData uri="http://schemas.openxmlformats.org/drawingml/2006/table">
            <a:tbl>
              <a:tblPr/>
              <a:tblGrid>
                <a:gridCol w="1542960"/>
                <a:gridCol w="668520"/>
                <a:gridCol w="668160"/>
                <a:gridCol w="668520"/>
                <a:gridCol w="669960"/>
                <a:gridCol w="668160"/>
                <a:gridCol w="668160"/>
                <a:gridCol w="668520"/>
                <a:gridCol w="671400"/>
                <a:gridCol w="668520"/>
                <a:gridCol w="666720"/>
              </a:tblGrid>
              <a:tr h="61272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VC Fi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GVC Firm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272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t ex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3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272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6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1272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n’t 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1272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26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2B292-DD5B-4838-806C-123761F8E9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57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  <a:ea typeface="Times New Roman"/>
              </a:rPr>
              <a:t>Important assistance come from value chains and government, especially for non-GVC.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2133720"/>
          <a:ext cx="8785080" cy="4006800"/>
        </p:xfrm>
        <a:graphic>
          <a:graphicData uri="http://schemas.openxmlformats.org/drawingml/2006/table">
            <a:tbl>
              <a:tblPr/>
              <a:tblGrid>
                <a:gridCol w="3525840"/>
                <a:gridCol w="527040"/>
                <a:gridCol w="525600"/>
                <a:gridCol w="527040"/>
                <a:gridCol w="525240"/>
                <a:gridCol w="527040"/>
                <a:gridCol w="525600"/>
                <a:gridCol w="528480"/>
                <a:gridCol w="525600"/>
                <a:gridCol w="525240"/>
                <a:gridCol w="522360"/>
              </a:tblGrid>
              <a:tr h="41904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V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n-GV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 exp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120">
                <a:tc>
                  <a:txBody>
                    <a:bodyPr lIns="17640" rIns="1764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vernment/Government agenc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2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00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sities/public research institu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al associ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61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l human resour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1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ternal Consulta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64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yers’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7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1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pliers’ assis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3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61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national cooper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648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6120"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. (multiple answered allowe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17640" rIns="1764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7640" marR="176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12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6BA4-C1B4-47BC-97B1-DF1D84316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VC firms tend to be exporters compared to non-GVC firms. 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916280"/>
          <a:ext cx="7848360" cy="4289400"/>
        </p:xfrm>
        <a:graphic>
          <a:graphicData uri="http://schemas.openxmlformats.org/drawingml/2006/table">
            <a:tbl>
              <a:tblPr/>
              <a:tblGrid>
                <a:gridCol w="2303280"/>
                <a:gridCol w="2217600"/>
                <a:gridCol w="1543320"/>
                <a:gridCol w="1784160"/>
              </a:tblGrid>
              <a:tr h="52992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3028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VC fi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entury"/>
                        </a:rPr>
                        <a:t>       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028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028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x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7780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GVC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028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3028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expor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30280"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2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BA84-6F14-4C2F-BBEE-F1D40E32A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57280"/>
            <a:ext cx="8229600" cy="17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GVC firms take measures on chemicals in products more than non-GVC firms irrespective of their export statu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457200" y="2565360"/>
          <a:ext cx="8229600" cy="3022560"/>
        </p:xfrm>
        <a:graphic>
          <a:graphicData uri="http://schemas.openxmlformats.org/drawingml/2006/table">
            <a:tbl>
              <a:tblPr/>
              <a:tblGrid>
                <a:gridCol w="1568520"/>
                <a:gridCol w="666720"/>
                <a:gridCol w="666720"/>
                <a:gridCol w="666720"/>
                <a:gridCol w="666720"/>
                <a:gridCol w="666720"/>
                <a:gridCol w="665280"/>
                <a:gridCol w="666720"/>
                <a:gridCol w="666720"/>
                <a:gridCol w="666720"/>
                <a:gridCol w="662040"/>
              </a:tblGrid>
              <a:tr h="36252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-G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16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52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87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n or Ask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252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216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k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252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i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1080"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135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A1D9-9FDA-4A09-A7D7-B4668EE0F9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 wide range of industries have been affected by PRERs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re involved participation in global markets means more adaptation required. This could result in a higher rate of rejec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irms with less adaptation typically produce for less regulated markets.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or adaptation, working coherently within supply chains is important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3FA6-5502-4F2A-9B33-9086414AD7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Future Challenge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Less rejection doesn’t imply less problem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Various PRERs may creat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try barriers for markets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 when firms want to shift to more regulated market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porting measures for indirect exporters</a:t>
            </a:r>
            <a:r>
              <a:rPr b="0" lang="en-US" sz="2400" spc="-1" strike="noStrike">
                <a:solidFill>
                  <a:srgbClr val="222268"/>
                </a:solidFill>
                <a:latin typeface="Arial"/>
              </a:rPr>
              <a:t> who do not have enough information about regulations overseas are important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countries introduce similar yet modified regulations/standards. This may create additional barrier for trade. It is importan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o share information and provide discussion platform among Southeast Asian countries so that countries can take adaptation actions in a harmonized way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34B7-60BC-4E8C-9EF3-06777670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References on product related chemical regulations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in manufacturing industries</a:t>
            </a:r>
            <a:br>
              <a:rPr sz="2000"/>
            </a:br>
            <a:r>
              <a:rPr b="0" lang="en-US" sz="2000" spc="-1" strike="noStrike">
                <a:solidFill>
                  <a:srgbClr val="660033"/>
                </a:solidFill>
                <a:latin typeface="Arial"/>
              </a:rPr>
              <a:t>downloadable from http://www.ide.go.jp/English/index.html</a:t>
            </a:r>
            <a:br>
              <a:rPr sz="2800"/>
            </a:b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Manufacturing Industries (on environmental regulation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hida, Etsuyo and Kaoru Nabeshima. 2012 “Role of Supply Chains in Adopting Product Related Environmental Regulations: Case Studies of Vietnam,” IDE-Discussion Paper No.418.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ide.go.jp/English/Publish/Download/Dp/343.htm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Ramungul, Nudjarin and Etsuyo Michida and Kaoru Nabeshima. 2013“Impact of Product-related Evnrironmental Regulations/Voluntary Requirements on Thai Firms,” IDE-Discussion Paper No.418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ide.go.jp/English/Publish/Download/Dp/383.htm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SzPct val="23510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hida, Etsuyo.2013” Impact of Product-related Environmental Regulations (PRERs) on Policies in Asia”, Policy Brief No.7.</a:t>
            </a:r>
            <a:br>
              <a:rPr sz="1400"/>
            </a:b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ide.go.jp/Japanese/Publish/Download/PolicyBrief/IDE/07.htm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SzPct val="23510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hida, Etsuyo and Kaoru Nabeshima.2013”</a:t>
            </a:r>
            <a:r>
              <a:rPr b="0" lang="ja-JP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Impact of Chemical-related PRERs on Firms in Malaysia”, Policy Brief No.8 </a:t>
            </a:r>
            <a:br>
              <a:rPr sz="1400"/>
            </a:b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ide.go.jp/Japanese/Publish/Download/PolicyBrief/IDE/08.html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349"/>
              </a:spcBef>
              <a:buSzPct val="23510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Michida, Etsuyo and Kaoru Nabeshima.2013” Impact of Chemical-related PRERs on Firms in Vietnam”, Policy Brief No.9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 http://www.ide.go.jp/Japanese/Publish/Download/PolicyBrief/IDE/09.html</a:t>
            </a:r>
            <a:br>
              <a:rPr sz="1400"/>
            </a:b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</a:rPr>
              <a:t> 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ank  you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22200" indent="-322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C1EC8-80CB-4B0C-B158-16308912B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Findings to be discussed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plementing traceability is becoming more important. But longer and more complex supply chains in the manufacturing sector in Asia could make it harder to install credible traceability syste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Less rejection doesn’t mean successful adaptation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leaner/safer products to tightly regulated markets, less cleaner/safer products to less regulated market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79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Future Challenges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681C2-D8DF-4C28-9BFB-ADE7F1166A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6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Extensive supply chains in Asia pose a major challenge for compliance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68360" y="1267920"/>
            <a:ext cx="8229600" cy="540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upply chains of manufacturing sectors are extensive in Asia. At each production stage, compliance to PRERs is required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 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66"/>
                </a:solidFill>
                <a:latin typeface="Arial"/>
              </a:rPr>
              <a:t>　　　　　　　　　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any SMEs do no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irectly export to the final market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スライド番号プレースホルダ 3"/>
          <p:cNvSpPr/>
          <p:nvPr/>
        </p:nvSpPr>
        <p:spPr>
          <a:xfrm>
            <a:off x="8028000" y="6308640"/>
            <a:ext cx="65880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7F4BE-A218-413C-BFBC-0C098A9B2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円/楕円 4"/>
          <p:cNvSpPr/>
          <p:nvPr/>
        </p:nvSpPr>
        <p:spPr>
          <a:xfrm>
            <a:off x="3564000" y="2708280"/>
            <a:ext cx="1584360" cy="10796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円/楕円 7"/>
          <p:cNvSpPr/>
          <p:nvPr/>
        </p:nvSpPr>
        <p:spPr>
          <a:xfrm>
            <a:off x="684360" y="2637000"/>
            <a:ext cx="1584000" cy="1079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B,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Raw Materi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円/楕円 8"/>
          <p:cNvSpPr/>
          <p:nvPr/>
        </p:nvSpPr>
        <p:spPr>
          <a:xfrm>
            <a:off x="468360" y="4941720"/>
            <a:ext cx="2085840" cy="1297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, D, 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anufa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円/楕円 11"/>
          <p:cNvSpPr/>
          <p:nvPr/>
        </p:nvSpPr>
        <p:spPr>
          <a:xfrm>
            <a:off x="3203640" y="5013360"/>
            <a:ext cx="1942920" cy="1224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ry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ssem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角丸四角形 12"/>
          <p:cNvSpPr/>
          <p:nvPr/>
        </p:nvSpPr>
        <p:spPr>
          <a:xfrm>
            <a:off x="7451640" y="2133720"/>
            <a:ext cx="1008000" cy="1008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角丸四角形 13"/>
          <p:cNvSpPr/>
          <p:nvPr/>
        </p:nvSpPr>
        <p:spPr>
          <a:xfrm>
            <a:off x="7524720" y="3429000"/>
            <a:ext cx="100800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角丸四角形 14"/>
          <p:cNvSpPr/>
          <p:nvPr/>
        </p:nvSpPr>
        <p:spPr>
          <a:xfrm>
            <a:off x="7524720" y="4724280"/>
            <a:ext cx="1079640" cy="1368720"/>
          </a:xfrm>
          <a:custGeom>
            <a:avLst/>
            <a:gdLst>
              <a:gd name="textAreaLeft" fmla="*/ 52560 w 1079640"/>
              <a:gd name="textAreaRight" fmla="*/ 1027080 w 1079640"/>
              <a:gd name="textAreaTop" fmla="*/ 52560 h 1368720"/>
              <a:gd name="textAreaBottom" fmla="*/ 1316160 h 1368720"/>
            </a:gdLst>
            <a:ahLst/>
            <a:rect l="textAreaLeft" t="textAreaTop" r="textAreaRight" b="textAreaBottom"/>
            <a:pathLst>
              <a:path w="21600" h="27382">
                <a:moveTo>
                  <a:pt x="3600" y="0"/>
                </a:moveTo>
                <a:arcTo wR="3600" hR="3600" stAng="16200000" swAng="-5400000"/>
                <a:lnTo>
                  <a:pt x="0" y="23782"/>
                </a:lnTo>
                <a:arcTo wR="3600" hR="3600" stAng="10800000" swAng="-5400000"/>
                <a:lnTo>
                  <a:pt x="18000" y="2738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SEANChin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pan?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左矢印 15"/>
          <p:cNvSpPr/>
          <p:nvPr/>
        </p:nvSpPr>
        <p:spPr>
          <a:xfrm>
            <a:off x="2411280" y="3068640"/>
            <a:ext cx="936720" cy="360360"/>
          </a:xfrm>
          <a:prstGeom prst="leftArrow">
            <a:avLst>
              <a:gd name="adj1" fmla="val 50000"/>
              <a:gd name="adj2" fmla="val 5000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下矢印 17"/>
          <p:cNvSpPr/>
          <p:nvPr/>
        </p:nvSpPr>
        <p:spPr>
          <a:xfrm>
            <a:off x="1258920" y="3716280"/>
            <a:ext cx="360360" cy="115272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右矢印 18"/>
          <p:cNvSpPr/>
          <p:nvPr/>
        </p:nvSpPr>
        <p:spPr>
          <a:xfrm>
            <a:off x="2627280" y="5516640"/>
            <a:ext cx="360360" cy="35856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曲折矢印 21"/>
          <p:cNvSpPr/>
          <p:nvPr/>
        </p:nvSpPr>
        <p:spPr>
          <a:xfrm>
            <a:off x="5364000" y="2492280"/>
            <a:ext cx="2087640" cy="2808360"/>
          </a:xfrm>
          <a:custGeom>
            <a:avLst/>
            <a:gdLst/>
            <a:ahLst/>
            <a:rect l="l" t="t" r="r" b="b"/>
            <a:pathLst>
              <a:path w="2087562" h="2808288">
                <a:moveTo>
                  <a:pt x="0" y="2808288"/>
                </a:moveTo>
                <a:lnTo>
                  <a:pt x="0" y="445590"/>
                </a:lnTo>
                <a:lnTo>
                  <a:pt x="0" y="445590"/>
                </a:lnTo>
                <a:arcTo wR="316850" hR="316850" stAng="10800000" swAng="5400011"/>
                <a:lnTo>
                  <a:pt x="1699422" y="128740"/>
                </a:lnTo>
                <a:lnTo>
                  <a:pt x="1699422" y="0"/>
                </a:lnTo>
                <a:lnTo>
                  <a:pt x="2087562" y="188820"/>
                </a:lnTo>
                <a:lnTo>
                  <a:pt x="1699422" y="377640"/>
                </a:lnTo>
                <a:lnTo>
                  <a:pt x="1699422" y="248900"/>
                </a:lnTo>
                <a:lnTo>
                  <a:pt x="316850" y="248900"/>
                </a:lnTo>
                <a:lnTo>
                  <a:pt x="316850" y="248900"/>
                </a:lnTo>
                <a:arcTo wR="196690" hR="196690" stAng="-5400000" swAng="-5400000"/>
                <a:lnTo>
                  <a:pt x="120160" y="280828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曲折矢印 22"/>
          <p:cNvSpPr/>
          <p:nvPr/>
        </p:nvSpPr>
        <p:spPr>
          <a:xfrm>
            <a:off x="5724360" y="3860640"/>
            <a:ext cx="1800360" cy="1513080"/>
          </a:xfrm>
          <a:custGeom>
            <a:avLst/>
            <a:gdLst/>
            <a:ahLst/>
            <a:rect l="l" t="t" r="r" b="b"/>
            <a:pathLst>
              <a:path w="1800225" h="1512888">
                <a:moveTo>
                  <a:pt x="0" y="1512888"/>
                </a:moveTo>
                <a:lnTo>
                  <a:pt x="0" y="809826"/>
                </a:lnTo>
                <a:lnTo>
                  <a:pt x="0" y="809826"/>
                </a:lnTo>
                <a:arcTo wR="661889" hR="661889" stAng="-10799995" swAng="5400000"/>
                <a:lnTo>
                  <a:pt x="1431156" y="147938"/>
                </a:lnTo>
                <a:lnTo>
                  <a:pt x="1431156" y="0"/>
                </a:lnTo>
                <a:lnTo>
                  <a:pt x="1800225" y="208975"/>
                </a:lnTo>
                <a:lnTo>
                  <a:pt x="1431156" y="417950"/>
                </a:lnTo>
                <a:lnTo>
                  <a:pt x="1431156" y="270013"/>
                </a:lnTo>
                <a:lnTo>
                  <a:pt x="661889" y="270013"/>
                </a:lnTo>
                <a:lnTo>
                  <a:pt x="661889" y="270013"/>
                </a:lnTo>
                <a:arcTo wR="539814" hR="539814" stAng="-5399994" swAng="-5400000"/>
                <a:lnTo>
                  <a:pt x="122075" y="151288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左矢印 23"/>
          <p:cNvSpPr/>
          <p:nvPr/>
        </p:nvSpPr>
        <p:spPr>
          <a:xfrm flipH="1">
            <a:off x="5435640" y="5516640"/>
            <a:ext cx="2016000" cy="360360"/>
          </a:xfrm>
          <a:prstGeom prst="leftArrow">
            <a:avLst>
              <a:gd name="adj1" fmla="val 50000"/>
              <a:gd name="adj2" fmla="val 4998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57280"/>
            <a:ext cx="8229600" cy="56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Firm Surveys in Malaysia and Vietnam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26792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Malaysia Sample: 369 firm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estic firms: 73%, FDI: 19%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p 5 industries: Fabricated metals: 59, Rubber/plastic 50, Basic metals 41, Computer/electronic 34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put materials procured from domestic market, Taiwan, ASEAN, Japan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port markets: ASEAN, US, Japan, China, E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Vietnam Sample: 1,055 firm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omestic firms: 54%, SOE: 4%, FDI: 31%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op 5 industries: Wearing Apparel: 284, Wood products: 146,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Food processing: 97, Rubber: 54, Electrical equipment: 29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put materials procured from China, Domestic, South Korea, Taiwan and etc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Export markets: EU, US and Japan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スライド番号プレースホル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FE63-C72F-496F-8DE3-BCD9B3694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Need to take measures about chemical substances in products are higher in Malaysia across industries (%)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0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651A-DD79-478E-8007-27CE4C5880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コンテンツ プレースホルダー 4" descr=""/>
          <p:cNvPicPr/>
          <p:nvPr/>
        </p:nvPicPr>
        <p:blipFill>
          <a:blip r:embed="rId1"/>
          <a:stretch/>
        </p:blipFill>
        <p:spPr>
          <a:xfrm>
            <a:off x="317520" y="1122480"/>
            <a:ext cx="8650440" cy="2889000"/>
          </a:xfrm>
          <a:prstGeom prst="rect">
            <a:avLst/>
          </a:prstGeom>
          <a:ln w="0">
            <a:noFill/>
          </a:ln>
        </p:spPr>
      </p:pic>
      <p:pic>
        <p:nvPicPr>
          <p:cNvPr id="82" name="グラフ 5" descr=""/>
          <p:cNvPicPr/>
          <p:nvPr/>
        </p:nvPicPr>
        <p:blipFill>
          <a:blip r:embed="rId2"/>
          <a:stretch/>
        </p:blipFill>
        <p:spPr>
          <a:xfrm>
            <a:off x="171360" y="3638520"/>
            <a:ext cx="8655120" cy="2890800"/>
          </a:xfrm>
          <a:prstGeom prst="rect">
            <a:avLst/>
          </a:prstGeom>
          <a:ln w="0">
            <a:noFill/>
          </a:ln>
        </p:spPr>
      </p:pic>
      <p:pic>
        <p:nvPicPr>
          <p:cNvPr id="83" name="グラフ 6" descr=""/>
          <p:cNvPicPr/>
          <p:nvPr/>
        </p:nvPicPr>
        <p:blipFill>
          <a:blip r:embed="rId3"/>
          <a:stretch/>
        </p:blipFill>
        <p:spPr>
          <a:xfrm>
            <a:off x="317520" y="901800"/>
            <a:ext cx="8650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640" y="475920"/>
            <a:ext cx="878508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The rate of rejection is higher in Malaysia. (% of firms)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85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B407-6807-494C-AB2E-9BBD16915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コンテンツ プレースホルダー 4" descr=""/>
          <p:cNvPicPr/>
          <p:nvPr/>
        </p:nvPicPr>
        <p:blipFill>
          <a:blip r:embed="rId1"/>
          <a:stretch/>
        </p:blipFill>
        <p:spPr>
          <a:xfrm>
            <a:off x="244440" y="974880"/>
            <a:ext cx="8655120" cy="2890800"/>
          </a:xfrm>
          <a:prstGeom prst="rect">
            <a:avLst/>
          </a:prstGeom>
          <a:ln w="0">
            <a:noFill/>
          </a:ln>
        </p:spPr>
      </p:pic>
      <p:pic>
        <p:nvPicPr>
          <p:cNvPr id="87" name="グラフ 5" descr=""/>
          <p:cNvPicPr/>
          <p:nvPr/>
        </p:nvPicPr>
        <p:blipFill>
          <a:blip r:embed="rId2"/>
          <a:stretch/>
        </p:blipFill>
        <p:spPr>
          <a:xfrm>
            <a:off x="244440" y="3565440"/>
            <a:ext cx="865512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8000" y="55692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For local firms, a rejection rate is lower as needs for taking measures are lower  </a:t>
            </a:r>
            <a:br>
              <a:rPr sz="2800"/>
            </a:b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68360" y="4365720"/>
          <a:ext cx="8229600" cy="1647720"/>
        </p:xfrm>
        <a:graphic>
          <a:graphicData uri="http://schemas.openxmlformats.org/drawingml/2006/table">
            <a:tbl>
              <a:tblPr/>
              <a:tblGrid>
                <a:gridCol w="765000"/>
                <a:gridCol w="936720"/>
                <a:gridCol w="806400"/>
                <a:gridCol w="936720"/>
                <a:gridCol w="938160"/>
                <a:gridCol w="1206720"/>
                <a:gridCol w="1072800"/>
                <a:gridCol w="804960"/>
                <a:gridCol w="76212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Locally ow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in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Foreign ow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18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0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D204B-9FF4-4E81-B30D-B86A7605C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68360" y="2205000"/>
          <a:ext cx="8229600" cy="1647720"/>
        </p:xfrm>
        <a:graphic>
          <a:graphicData uri="http://schemas.openxmlformats.org/drawingml/2006/table">
            <a:tbl>
              <a:tblPr/>
              <a:tblGrid>
                <a:gridCol w="765000"/>
                <a:gridCol w="936720"/>
                <a:gridCol w="806400"/>
                <a:gridCol w="936720"/>
                <a:gridCol w="938160"/>
                <a:gridCol w="1206720"/>
                <a:gridCol w="1072800"/>
                <a:gridCol w="804960"/>
                <a:gridCol w="762120"/>
              </a:tblGrid>
              <a:tr h="549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Locally ow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oint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ntu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% Foreign ow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.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.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.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.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55.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.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78.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.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743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sp>
        <p:nvSpPr>
          <p:cNvPr id="92" name="テキスト ボックス 7"/>
          <p:cNvSpPr/>
          <p:nvPr/>
        </p:nvSpPr>
        <p:spPr>
          <a:xfrm>
            <a:off x="611280" y="184464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sures for chemical substances are ta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8"/>
          <p:cNvSpPr/>
          <p:nvPr/>
        </p:nvSpPr>
        <p:spPr>
          <a:xfrm>
            <a:off x="755640" y="400536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te of rejection due to chemical substances in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7640" y="556920"/>
            <a:ext cx="878508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Firms have adapted to PRERs by testing, changing process and changing inputs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124000" y="2492280"/>
          <a:ext cx="5688000" cy="3657600"/>
        </p:xfrm>
        <a:graphic>
          <a:graphicData uri="http://schemas.openxmlformats.org/drawingml/2006/table">
            <a:tbl>
              <a:tblPr/>
              <a:tblGrid>
                <a:gridCol w="4178520"/>
                <a:gridCol w="753840"/>
                <a:gridCol w="755640"/>
              </a:tblGrid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Send products for tes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45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ange production proc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30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Change inpu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29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 in new production fac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tain certific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.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vest in testing facilit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ge product desig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th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05280">
                <a:tc>
                  <a:txBody>
                    <a:bodyPr lIns="36360" rIns="363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s. (multiple answered allowed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36360" rIns="363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360" marR="36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96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14C2B-A1D0-4D06-835C-69C2D6F0A3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5728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Results of survey in Vietnam (2012) and Malaysia (2013) for the product related chemical regulations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98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9FE3-4F8D-41B1-BE1A-EDF130387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"/>
          <p:cNvSpPr/>
          <p:nvPr/>
        </p:nvSpPr>
        <p:spPr>
          <a:xfrm>
            <a:off x="1076400" y="1557360"/>
            <a:ext cx="72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1% of Vietnamese firms and 28% of Malaysian firms said that they use different chemicals according to the regulations in destination marke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グループ化 6"/>
          <p:cNvGrpSpPr/>
          <p:nvPr/>
        </p:nvGrpSpPr>
        <p:grpSpPr>
          <a:xfrm>
            <a:off x="1332000" y="2470320"/>
            <a:ext cx="5867280" cy="3660480"/>
            <a:chOff x="1332000" y="2470320"/>
            <a:chExt cx="5867280" cy="3660480"/>
          </a:xfrm>
        </p:grpSpPr>
        <p:sp>
          <p:nvSpPr>
            <p:cNvPr id="101" name="角丸四角形 7"/>
            <p:cNvSpPr/>
            <p:nvPr/>
          </p:nvSpPr>
          <p:spPr>
            <a:xfrm>
              <a:off x="1442880" y="3834000"/>
              <a:ext cx="5756400" cy="2209680"/>
            </a:xfrm>
            <a:prstGeom prst="roundRect">
              <a:avLst>
                <a:gd name="adj" fmla="val 16667"/>
              </a:avLst>
            </a:prstGeom>
            <a:solidFill>
              <a:srgbClr val="f8e1a6">
                <a:alpha val="50000"/>
              </a:srgbClr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角丸四角形 8"/>
            <p:cNvSpPr/>
            <p:nvPr/>
          </p:nvSpPr>
          <p:spPr>
            <a:xfrm>
              <a:off x="5437440" y="2663640"/>
              <a:ext cx="1557360" cy="69372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Regulated mark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角丸四角形 9"/>
            <p:cNvSpPr/>
            <p:nvPr/>
          </p:nvSpPr>
          <p:spPr>
            <a:xfrm>
              <a:off x="5462640" y="5122800"/>
              <a:ext cx="1573200" cy="695160"/>
            </a:xfrm>
            <a:prstGeom prst="roundRect">
              <a:avLst>
                <a:gd name="adj" fmla="val 16667"/>
              </a:avLst>
            </a:prstGeom>
            <a:solidFill>
              <a:srgbClr val="92d05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ＭＳ 明朝"/>
                </a:rPr>
                <a:t>Unregulated marke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円/楕円 10"/>
            <p:cNvSpPr/>
            <p:nvPr/>
          </p:nvSpPr>
          <p:spPr>
            <a:xfrm>
              <a:off x="1332000" y="2470320"/>
              <a:ext cx="1995480" cy="110952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ＭＳ Ｐゴシック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2" descr=""/>
            <p:cNvPicPr/>
            <p:nvPr/>
          </p:nvPicPr>
          <p:blipFill>
            <a:blip r:embed="rId1"/>
            <a:stretch/>
          </p:blipFill>
          <p:spPr>
            <a:xfrm>
              <a:off x="1658880" y="5123160"/>
              <a:ext cx="1656000" cy="78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テキスト ボックス 9"/>
            <p:cNvSpPr/>
            <p:nvPr/>
          </p:nvSpPr>
          <p:spPr>
            <a:xfrm>
              <a:off x="1658880" y="3909600"/>
              <a:ext cx="16905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Firms that produ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compliant and non-compliant produc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テキスト ボックス 10"/>
            <p:cNvSpPr/>
            <p:nvPr/>
          </p:nvSpPr>
          <p:spPr>
            <a:xfrm>
              <a:off x="1754640" y="5168880"/>
              <a:ext cx="153108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"/>
                  <a:ea typeface="Times New Roman"/>
                </a:rPr>
                <a:t>Firms that have not yet adapted to the regul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8" name="直線矢印コネクタ 15"/>
            <p:cNvCxnSpPr>
              <a:stCxn id="104" idx="6"/>
              <a:endCxn id="102" idx="1"/>
            </p:cNvCxnSpPr>
            <p:nvPr/>
          </p:nvCxnSpPr>
          <p:spPr>
            <a:xfrm flipV="1">
              <a:off x="3327480" y="3010680"/>
              <a:ext cx="2110320" cy="147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9" name="直線矢印コネクタ 16"/>
            <p:cNvCxnSpPr/>
            <p:nvPr/>
          </p:nvCxnSpPr>
          <p:spPr>
            <a:xfrm>
              <a:off x="3286080" y="4349520"/>
              <a:ext cx="2131200" cy="1121400"/>
            </a:xfrm>
            <a:prstGeom prst="straightConnector1">
              <a:avLst/>
            </a:prstGeom>
            <a:ln w="2232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10" name="直線矢印コネクタ 17"/>
            <p:cNvCxnSpPr>
              <a:endCxn id="102" idx="1"/>
            </p:cNvCxnSpPr>
            <p:nvPr/>
          </p:nvCxnSpPr>
          <p:spPr>
            <a:xfrm flipV="1">
              <a:off x="3290760" y="3010680"/>
              <a:ext cx="2147040" cy="12834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直線矢印コネクタ 18"/>
            <p:cNvCxnSpPr>
              <a:endCxn id="103" idx="1"/>
            </p:cNvCxnSpPr>
            <p:nvPr/>
          </p:nvCxnSpPr>
          <p:spPr>
            <a:xfrm flipV="1">
              <a:off x="3308400" y="5469840"/>
              <a:ext cx="215496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上矢印 19"/>
            <p:cNvSpPr/>
            <p:nvPr/>
          </p:nvSpPr>
          <p:spPr>
            <a:xfrm>
              <a:off x="6039000" y="3503520"/>
              <a:ext cx="422280" cy="3315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上矢印 20"/>
            <p:cNvSpPr/>
            <p:nvPr/>
          </p:nvSpPr>
          <p:spPr>
            <a:xfrm>
              <a:off x="2079720" y="3583080"/>
              <a:ext cx="684000" cy="25236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bbe0e3"/>
            </a:solidFill>
            <a:ln w="2556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ＭＳ Ｐゴシック"/>
                  <a:ea typeface="Arial"/>
                </a:rPr>
                <a:t> </a:t>
              </a:r>
              <a:r>
                <a:rPr b="0" lang="ja-JP" sz="1000" spc="-1" strike="noStrike">
                  <a:solidFill>
                    <a:srgbClr val="000000"/>
                  </a:solidFill>
                  <a:latin typeface="ＭＳ Ｐゴシック"/>
                  <a:ea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テキスト ボックス 39"/>
            <p:cNvSpPr/>
            <p:nvPr/>
          </p:nvSpPr>
          <p:spPr>
            <a:xfrm>
              <a:off x="3180240" y="2549520"/>
              <a:ext cx="228312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"/>
                </a:rPr>
                <a:t>Supply chains with tracea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テキスト ボックス 40"/>
            <p:cNvSpPr/>
            <p:nvPr/>
          </p:nvSpPr>
          <p:spPr>
            <a:xfrm>
              <a:off x="3186360" y="5541840"/>
              <a:ext cx="228312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"/>
                </a:rPr>
                <a:t>Supply chains without traceabil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テキスト ボックス 9"/>
          <p:cNvSpPr/>
          <p:nvPr/>
        </p:nvSpPr>
        <p:spPr>
          <a:xfrm>
            <a:off x="930240" y="7183440"/>
            <a:ext cx="16891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"/>
                <a:ea typeface="Times New Roman"/>
              </a:rPr>
              <a:t>Firms that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"/>
                <a:ea typeface="Times New Roman"/>
              </a:rPr>
              <a:t>compliant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テキスト ボックス 9"/>
          <p:cNvSpPr/>
          <p:nvPr/>
        </p:nvSpPr>
        <p:spPr>
          <a:xfrm>
            <a:off x="1484280" y="2751120"/>
            <a:ext cx="169056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"/>
                <a:ea typeface="Times New Roman"/>
              </a:rPr>
              <a:t>Firms that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"/>
                <a:ea typeface="Times New Roman"/>
              </a:rPr>
              <a:t>compliant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504907560" y="2147484240"/>
            <a:ext cx="2147484240" cy="14137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4:35:52Z</dcterms:created>
  <dc:creator>Ikumo Isono</dc:creator>
  <dc:description/>
  <dc:language>en-US</dc:language>
  <cp:lastModifiedBy>Chang Yii Tan_2</cp:lastModifiedBy>
  <dcterms:modified xsi:type="dcterms:W3CDTF">2014-02-16T23:19:44Z</dcterms:modified>
  <cp:revision>292</cp:revision>
  <dc:subject/>
  <dc:title>ha</dc:title>
</cp:coreProperties>
</file>