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24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35D0-76C7-4B69-A6E7-C83B26703AC6}" type="slidenum">
              <a:rPr b="0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4CD7-1D34-427C-ABC6-4E1D42BC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05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F5E3A-8FD2-4871-8FD1-1CACF4A8E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05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05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04F35-BEAE-4F7C-AA32-4078A523C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05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05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05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D3289-CD4C-406E-84F6-ECEFDDAA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05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88F2-F78A-491A-BD94-29A1183F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05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05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05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05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05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05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05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05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0FBF3-B300-4066-89DB-63947584F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D0AB2-88E3-4185-A48C-FC23EE78A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96F5A-6F47-4B02-AD16-FFF5AC71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A5A038-7637-4787-9FC5-91AC2F7B7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022DF-2398-4E9E-BD36-84346328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BBC6F-9E1F-4DB1-B341-B846380E5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23BA32-242F-4367-8690-68FF7942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05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4BF55-3F33-400E-B6E2-14F38827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05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8A9CF-D4AC-4923-BF1C-7D48888A0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05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0ED17-E95B-409D-AA4B-9684CEC3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05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F2488-B309-4AC6-A77F-4F284BF7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05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05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8ECB6-D31B-419F-9D80-88D988387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05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05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05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0B265-8EC2-40A8-ACC2-9CB405E51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C25471-F204-4B25-AB1E-5BD5079A2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F8E4BF-6167-4BAD-8A6D-E648234F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DEFF1F1-5BC4-42B9-95AD-E567FA67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FDEB-DEF4-488C-A676-98BE4191B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0AAA09-449C-474F-A936-91F2C5111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567029-4EC7-4EC1-94C8-7034ECB73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216584-4C70-4F35-83EC-9992FA5D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05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20B952E-B337-4F99-9A00-8820F45C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05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BF2D5B-E0DF-4B79-9B03-E1635AD25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05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2A0D3C-06E0-4D74-B781-E3CF20C7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05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C9EE80-59B9-4C5C-9CF0-348CFE8B4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05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05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FB1D04-448E-40DB-BCB6-B13CA2AA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05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05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05280"/>
            <a:ext cx="264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7C8313-2BD7-4D56-B486-36978A91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E89EA-9D54-42EF-9BBF-930893F87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B819-CE80-43C1-B36C-2EC7BF03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05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A20E-3FB7-4563-832E-A58F4C82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0528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14A66-04E9-4498-88F5-76097511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964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05280"/>
            <a:ext cx="82296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AEC46-EDF9-48D6-9E37-FED05BE8B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รูปภาพ 8" descr="mtec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8000" y="6597360"/>
            <a:ext cx="7556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AD66-EF8D-4B9E-B04C-8418033B7191}" type="slidenum"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7"/>
          <p:cNvSpPr/>
          <p:nvPr/>
        </p:nvSpPr>
        <p:spPr>
          <a:xfrm>
            <a:off x="457200" y="1012680"/>
            <a:ext cx="822960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-360" y="6619680"/>
            <a:ext cx="21337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8C5D6-7DE1-42E9-BDB4-6B86B68CE387}" type="datetime"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>
          <a:xfrm>
            <a:off x="1476360" y="6597360"/>
            <a:ext cx="62546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" name="Picture 2" descr="C:\Users\Nudjarin\Desktop\MTEC1.png"/>
          <p:cNvPicPr/>
          <p:nvPr/>
        </p:nvPicPr>
        <p:blipFill>
          <a:blip r:embed="rId3"/>
          <a:stretch/>
        </p:blipFill>
        <p:spPr>
          <a:xfrm>
            <a:off x="7324560" y="6153120"/>
            <a:ext cx="1819440" cy="704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รูปภาพ 8" descr="mtec01.jpg"/>
          <p:cNvPicPr/>
          <p:nvPr/>
        </p:nvPicPr>
        <p:blipFill>
          <a:blip r:embed="rId2"/>
          <a:stretch/>
        </p:blipFill>
        <p:spPr>
          <a:xfrm>
            <a:off x="0" y="-316080"/>
            <a:ext cx="9144000" cy="7174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Nudjarin\Desktop\MTEC1.png"/>
          <p:cNvPicPr/>
          <p:nvPr/>
        </p:nvPicPr>
        <p:blipFill>
          <a:blip r:embed="rId3"/>
          <a:stretch/>
        </p:blipFill>
        <p:spPr>
          <a:xfrm>
            <a:off x="7324560" y="0"/>
            <a:ext cx="1819440" cy="7048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รูปภาพ 8" descr="mtec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Line 7"/>
          <p:cNvSpPr/>
          <p:nvPr/>
        </p:nvSpPr>
        <p:spPr>
          <a:xfrm>
            <a:off x="457200" y="1012680"/>
            <a:ext cx="822960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Picture 2" descr="C:\Users\Nudjarin\Desktop\MTEC1.png"/>
          <p:cNvPicPr/>
          <p:nvPr/>
        </p:nvPicPr>
        <p:blipFill>
          <a:blip r:embed="rId3"/>
          <a:stretch/>
        </p:blipFill>
        <p:spPr>
          <a:xfrm>
            <a:off x="7324560" y="6153120"/>
            <a:ext cx="1819440" cy="7048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4"/>
          </p:nvPr>
        </p:nvSpPr>
        <p:spPr>
          <a:xfrm>
            <a:off x="8388000" y="6597360"/>
            <a:ext cx="7556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1AB66-EE17-4B1F-9BC6-8D042F9783B8}" type="slidenum"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0" y="6619680"/>
            <a:ext cx="140328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6D3C5-CAA5-427B-B9AE-E57DA930CDA1}" type="datetime"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1476360" y="6597360"/>
            <a:ext cx="625464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รูปภาพ 8" descr="mtec0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Line 7"/>
          <p:cNvSpPr/>
          <p:nvPr/>
        </p:nvSpPr>
        <p:spPr>
          <a:xfrm>
            <a:off x="457200" y="1012680"/>
            <a:ext cx="8229600" cy="0"/>
          </a:xfrm>
          <a:prstGeom prst="line">
            <a:avLst/>
          </a:prstGeom>
          <a:ln w="381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2" descr="C:\Users\Nudjarin\Desktop\MTEC1.png"/>
          <p:cNvPicPr/>
          <p:nvPr/>
        </p:nvPicPr>
        <p:blipFill>
          <a:blip r:embed="rId3"/>
          <a:stretch/>
        </p:blipFill>
        <p:spPr>
          <a:xfrm>
            <a:off x="7324560" y="6153120"/>
            <a:ext cx="1819440" cy="704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7"/>
          </p:nvPr>
        </p:nvSpPr>
        <p:spPr>
          <a:xfrm>
            <a:off x="8388000" y="6597360"/>
            <a:ext cx="75564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59E4-8249-4595-882E-270D2A84086B}" type="slidenum"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dt" idx="8"/>
          </p:nvPr>
        </p:nvSpPr>
        <p:spPr>
          <a:xfrm>
            <a:off x="-360" y="6619680"/>
            <a:ext cx="2133720" cy="2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9951-1AB7-41C1-A141-F971CB681867}" type="datetime">
              <a:rPr b="0" lang="th-TH" sz="11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ftr" idx="9"/>
          </p:nvPr>
        </p:nvSpPr>
        <p:spPr>
          <a:xfrm>
            <a:off x="1476000" y="6597360"/>
            <a:ext cx="583236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7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ahoma"/>
              </a:rPr>
              <a:t>RoHS/REACH adaption: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ahoma"/>
              </a:rPr>
              <a:t>Thai experience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62120" y="3886200"/>
            <a:ext cx="76960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djarin Ramungu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vironment Research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ional Metal and Materials Technology Center (MTE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tional Science and Technology Development Agency (NSTD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nistry of Science and Technology, Thail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Box 3"/>
          <p:cNvSpPr/>
          <p:nvPr/>
        </p:nvSpPr>
        <p:spPr>
          <a:xfrm>
            <a:off x="6705720" y="6324480"/>
            <a:ext cx="2133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bruary 2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201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ahoma"/>
              </a:rPr>
              <a:t>2009~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63" name="Slide Number Placeholder 13"/>
          <p:cNvSpPr/>
          <p:nvPr/>
        </p:nvSpPr>
        <p:spPr>
          <a:xfrm>
            <a:off x="8388360" y="6597720"/>
            <a:ext cx="75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4B56-B6FC-4712-B053-653681BC23F2}" type="slidenum">
              <a:rPr b="0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" name="Group 10"/>
          <p:cNvGrpSpPr/>
          <p:nvPr/>
        </p:nvGrpSpPr>
        <p:grpSpPr>
          <a:xfrm>
            <a:off x="2576520" y="161640"/>
            <a:ext cx="6364800" cy="6384240"/>
            <a:chOff x="2576520" y="161640"/>
            <a:chExt cx="6364800" cy="6384240"/>
          </a:xfrm>
        </p:grpSpPr>
        <p:pic>
          <p:nvPicPr>
            <p:cNvPr id="265" name="Picture 2" descr=""/>
            <p:cNvPicPr/>
            <p:nvPr/>
          </p:nvPicPr>
          <p:blipFill>
            <a:blip r:embed="rId1"/>
            <a:stretch/>
          </p:blipFill>
          <p:spPr>
            <a:xfrm rot="20490000">
              <a:off x="4192200" y="676440"/>
              <a:ext cx="3657600" cy="2535120"/>
            </a:xfrm>
            <a:prstGeom prst="rect">
              <a:avLst/>
            </a:prstGeom>
            <a:ln w="9360">
              <a:solidFill>
                <a:srgbClr val="f79646"/>
              </a:solidFill>
              <a:miter/>
            </a:ln>
          </p:spPr>
        </p:pic>
        <p:pic>
          <p:nvPicPr>
            <p:cNvPr id="266" name="Picture 3" descr=""/>
            <p:cNvPicPr/>
            <p:nvPr/>
          </p:nvPicPr>
          <p:blipFill>
            <a:blip r:embed="rId2"/>
            <a:stretch/>
          </p:blipFill>
          <p:spPr>
            <a:xfrm rot="20839200">
              <a:off x="4597200" y="1231560"/>
              <a:ext cx="3657600" cy="2165400"/>
            </a:xfrm>
            <a:prstGeom prst="rect">
              <a:avLst/>
            </a:prstGeom>
            <a:ln w="9360">
              <a:solidFill>
                <a:srgbClr val="f79646"/>
              </a:solidFill>
              <a:miter/>
            </a:ln>
          </p:spPr>
        </p:pic>
        <p:pic>
          <p:nvPicPr>
            <p:cNvPr id="267" name="Picture 4" descr=""/>
            <p:cNvPicPr/>
            <p:nvPr/>
          </p:nvPicPr>
          <p:blipFill>
            <a:blip r:embed="rId3"/>
            <a:stretch/>
          </p:blipFill>
          <p:spPr>
            <a:xfrm rot="21192000">
              <a:off x="5129280" y="1964880"/>
              <a:ext cx="3657600" cy="2822400"/>
            </a:xfrm>
            <a:prstGeom prst="rect">
              <a:avLst/>
            </a:prstGeom>
            <a:ln w="9360">
              <a:solidFill>
                <a:srgbClr val="f79646"/>
              </a:solidFill>
              <a:miter/>
            </a:ln>
          </p:spPr>
        </p:pic>
        <p:pic>
          <p:nvPicPr>
            <p:cNvPr id="268" name="Picture 5" descr=""/>
            <p:cNvPicPr/>
            <p:nvPr/>
          </p:nvPicPr>
          <p:blipFill>
            <a:blip r:embed="rId4"/>
            <a:stretch/>
          </p:blipFill>
          <p:spPr>
            <a:xfrm rot="267600">
              <a:off x="5065560" y="2728440"/>
              <a:ext cx="3657600" cy="2466720"/>
            </a:xfrm>
            <a:prstGeom prst="rect">
              <a:avLst/>
            </a:prstGeom>
            <a:ln w="9360">
              <a:solidFill>
                <a:srgbClr val="f79646"/>
              </a:solidFill>
              <a:miter/>
            </a:ln>
          </p:spPr>
        </p:pic>
        <p:pic>
          <p:nvPicPr>
            <p:cNvPr id="269" name="Picture 7" descr=""/>
            <p:cNvPicPr/>
            <p:nvPr/>
          </p:nvPicPr>
          <p:blipFill>
            <a:blip r:embed="rId5"/>
            <a:stretch/>
          </p:blipFill>
          <p:spPr>
            <a:xfrm rot="1009200">
              <a:off x="4700520" y="3490560"/>
              <a:ext cx="3657600" cy="2581200"/>
            </a:xfrm>
            <a:prstGeom prst="rect">
              <a:avLst/>
            </a:prstGeom>
            <a:ln w="9360">
              <a:solidFill>
                <a:srgbClr val="f79646"/>
              </a:solidFill>
              <a:miter/>
            </a:ln>
          </p:spPr>
        </p:pic>
        <p:pic>
          <p:nvPicPr>
            <p:cNvPr id="270" name="Picture 6" descr=""/>
            <p:cNvPicPr/>
            <p:nvPr/>
          </p:nvPicPr>
          <p:blipFill>
            <a:blip r:embed="rId6"/>
            <a:stretch/>
          </p:blipFill>
          <p:spPr>
            <a:xfrm>
              <a:off x="2576520" y="2590920"/>
              <a:ext cx="3657600" cy="2251080"/>
            </a:xfrm>
            <a:prstGeom prst="rect">
              <a:avLst/>
            </a:prstGeom>
            <a:ln w="9360">
              <a:solidFill>
                <a:srgbClr val="f79646"/>
              </a:solidFill>
              <a:miter/>
            </a:ln>
          </p:spPr>
        </p:pic>
      </p:grpSp>
      <p:sp>
        <p:nvSpPr>
          <p:cNvPr id="271" name="TextBox 12"/>
          <p:cNvSpPr/>
          <p:nvPr/>
        </p:nvSpPr>
        <p:spPr>
          <a:xfrm>
            <a:off x="457200" y="1204920"/>
            <a:ext cx="3043080" cy="24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cused 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-to-date information dissemination &amp;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-depth technical ana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ing cour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cussion for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chnical Pa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ahoma"/>
              </a:rPr>
              <a:t>On-line platform (new.ThaiRoHS.org) 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1"/>
          <a:srcRect l="8855" t="18056" r="10417" b="9723"/>
          <a:stretch/>
        </p:blipFill>
        <p:spPr>
          <a:xfrm>
            <a:off x="1600200" y="2209680"/>
            <a:ext cx="7086600" cy="39625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3" descr=""/>
          <p:cNvPicPr/>
          <p:nvPr/>
        </p:nvPicPr>
        <p:blipFill>
          <a:blip r:embed="rId2"/>
          <a:srcRect l="8681" t="18056" r="10588" b="12501"/>
          <a:stretch/>
        </p:blipFill>
        <p:spPr>
          <a:xfrm>
            <a:off x="457200" y="1143000"/>
            <a:ext cx="7086600" cy="3809880"/>
          </a:xfrm>
          <a:prstGeom prst="rect">
            <a:avLst/>
          </a:prstGeom>
          <a:ln w="0">
            <a:noFill/>
          </a:ln>
        </p:spPr>
      </p:pic>
      <p:sp>
        <p:nvSpPr>
          <p:cNvPr id="275" name="Slide Number Placeholder 4"/>
          <p:cNvSpPr/>
          <p:nvPr/>
        </p:nvSpPr>
        <p:spPr>
          <a:xfrm>
            <a:off x="8388360" y="6597720"/>
            <a:ext cx="75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7589-0C38-4CA4-A762-20383D61467C}" type="slidenum">
              <a:rPr b="0" lang="th-TH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ahoma"/>
              </a:rPr>
              <a:t>From RoHS/ELV to REACH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77" name="Pentagon 6"/>
          <p:cNvSpPr/>
          <p:nvPr/>
        </p:nvSpPr>
        <p:spPr>
          <a:xfrm>
            <a:off x="857160" y="1500120"/>
            <a:ext cx="2714760" cy="100008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07" y="0"/>
                </a:lnTo>
                <a:lnTo>
                  <a:pt x="21600" y="10800"/>
                </a:lnTo>
                <a:lnTo>
                  <a:pt x="1950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gh degree of complexity of the Regul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entagon 7"/>
          <p:cNvSpPr/>
          <p:nvPr/>
        </p:nvSpPr>
        <p:spPr>
          <a:xfrm>
            <a:off x="857160" y="2643120"/>
            <a:ext cx="2714760" cy="100008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07" y="0"/>
                </a:lnTo>
                <a:lnTo>
                  <a:pt x="21600" y="10800"/>
                </a:lnTo>
                <a:lnTo>
                  <a:pt x="1950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gh degree of complexity of globalized production chai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entagon 8"/>
          <p:cNvSpPr/>
          <p:nvPr/>
        </p:nvSpPr>
        <p:spPr>
          <a:xfrm>
            <a:off x="857160" y="3857760"/>
            <a:ext cx="2714760" cy="100008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07" y="0"/>
                </a:lnTo>
                <a:lnTo>
                  <a:pt x="21600" y="10800"/>
                </a:lnTo>
                <a:lnTo>
                  <a:pt x="1950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nticipated large number of concern substances to manage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entagon 9"/>
          <p:cNvSpPr/>
          <p:nvPr/>
        </p:nvSpPr>
        <p:spPr>
          <a:xfrm>
            <a:off x="857160" y="5000760"/>
            <a:ext cx="2714760" cy="1000080"/>
          </a:xfrm>
          <a:custGeom>
            <a:avLst/>
            <a:gdLst>
              <a:gd name="textAreaLeft" fmla="*/ 0 w 2714760"/>
              <a:gd name="textAreaRight" fmla="*/ 2715120 w 2714760"/>
              <a:gd name="textAreaTop" fmla="*/ 0 h 1000080"/>
              <a:gd name="textAreaBottom" fmla="*/ 1000440 h 100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507" y="0"/>
                </a:lnTo>
                <a:lnTo>
                  <a:pt x="21600" y="10800"/>
                </a:lnTo>
                <a:lnTo>
                  <a:pt x="19507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b6c1d"/>
              </a:gs>
              <a:gs pos="100000">
                <a:srgbClr val="ff8f26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Tight timeline to response (to dynamic list of concern substance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Rounded Rectangle 11"/>
          <p:cNvSpPr/>
          <p:nvPr/>
        </p:nvSpPr>
        <p:spPr>
          <a:xfrm>
            <a:off x="3786120" y="2249640"/>
            <a:ext cx="4572000" cy="2787480"/>
          </a:xfrm>
          <a:prstGeom prst="roundRect">
            <a:avLst>
              <a:gd name="adj" fmla="val 11079"/>
            </a:avLst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65240" indent="-165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eyond operational capability of a single ent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165240" indent="-1652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Require new facilitating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5240" indent="-165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quire regional/international collabo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165240" indent="-165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ntity along supply chain need to work in conc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" name="Picture 1" descr="JAMP-logo"/>
          <p:cNvPicPr/>
          <p:nvPr/>
        </p:nvPicPr>
        <p:blipFill>
          <a:blip r:embed="rId1"/>
          <a:stretch/>
        </p:blipFill>
        <p:spPr>
          <a:xfrm>
            <a:off x="6143760" y="1500120"/>
            <a:ext cx="1958760" cy="571680"/>
          </a:xfrm>
          <a:prstGeom prst="rect">
            <a:avLst/>
          </a:prstGeom>
          <a:ln w="0">
            <a:noFill/>
          </a:ln>
        </p:spPr>
      </p:pic>
      <p:sp>
        <p:nvSpPr>
          <p:cNvPr id="283" name="Slide Number Placeholder 13"/>
          <p:cNvSpPr/>
          <p:nvPr/>
        </p:nvSpPr>
        <p:spPr>
          <a:xfrm>
            <a:off x="8388360" y="6597720"/>
            <a:ext cx="75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3B8D-9081-4512-9999-B162E66E36E9}" type="slidenum">
              <a:rPr b="0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ahoma"/>
              </a:rPr>
              <a:t>Key capacity improvement areas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Human Resources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Technical knowledge to support risk-based chemicals safety management &amp; greener products develop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apacity to develop &amp; enforce similar regulation/mechanism in Thailan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duce supply-chain burde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ncubate local supplier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Protect consumers/environment from the use of high risk substance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Infrastructure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upportive infrastructure to synergize green supply chain developmen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Regional/ Multinational supply-chain collaboration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nsistent ‘green’ standards/ practice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Encourage long-term development for upstream/middle stream producer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8388360" y="6597720"/>
            <a:ext cx="75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6EA4-AF0A-4405-9678-A8924DFE001A}" type="slidenum">
              <a:rPr b="0" lang="th-TH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2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971640" y="3117960"/>
            <a:ext cx="7315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Text Box 3"/>
          <p:cNvSpPr/>
          <p:nvPr/>
        </p:nvSpPr>
        <p:spPr>
          <a:xfrm>
            <a:off x="1428840" y="4184640"/>
            <a:ext cx="640080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udjarin Ramungu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vironment Research Un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ational Metal and Materials Technology Ce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: 0-2564-65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-mail: nudjarr@mtec.or.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539640" y="225360"/>
            <a:ext cx="8212320" cy="144144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719280" y="1181160"/>
            <a:ext cx="67719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พลังผู้ประกอบการไทย</a:t>
            </a:r>
            <a:r>
              <a:rPr b="0" lang="th-TH" sz="20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ahoma"/>
                <a:cs typeface="Tahoma"/>
              </a:rPr>
              <a:t>เพื่อผลิตสินค้ารักษ์สิ่งแวดล้อมระดับโล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ahoma"/>
              </a:rPr>
              <a:t>Outline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y challenges of RoHS &amp; REACH faced by firms in Thail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ur approaches to support industry (SMEs) to overcome RoHS &amp; R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8388360" y="6597720"/>
            <a:ext cx="75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D5014-4E92-461C-BB79-899696B34534}" type="slidenum">
              <a:rPr b="0" lang="th-TH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ahoma"/>
              </a:rPr>
              <a:t>Challenges of RoHS &amp; REACH (for Articles)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197000"/>
            <a:ext cx="8458200" cy="543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omplex &amp; dynamic technical regul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mical contents in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nfamiliar subject to most firms/industry personnel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sk-based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Different obligations for different substance categories/ risk profil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Regulatory requirements for specific substance can be changed based on new scientific evidenc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Unfamiliar concept to most firm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ndency to develop generalized requirements to facilitate supply-chain commun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Time between addition of new candidate list substances is shorter than time for S/C products to reach market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Wide spread impac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ly few ‘out of REACH’ ar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Approach to apply trigger limit (REACH article 7 &amp; 33) still not unif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ce an article – always and article (DE,FR,SE,AT,BE,NO,D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racteristic of the product as import/as produ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8388360" y="6597720"/>
            <a:ext cx="75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2035-CCD4-41AC-A765-D307B4679CD6}" type="slidenum">
              <a:rPr b="0" lang="th-TH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ahoma"/>
              </a:rPr>
              <a:t>Challenges of RoHS &amp; REACH (for Articles) (2)</a:t>
            </a:r>
            <a:endParaRPr b="0" lang="en-US" sz="28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CH SVHC from Risk-based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firms are responsible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‘concern substances’ 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products/parts (including packa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CH SVHC in supply-chain con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firm has responsibility to confirm (through third party verification/certif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‘concern substance’ 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product/part (including packa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8388360" y="6597720"/>
            <a:ext cx="75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CE28-2255-4870-9C10-3A18DC2669BA}" type="slidenum">
              <a:rPr b="0" lang="th-TH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ahoma"/>
              </a:rPr>
              <a:t>Our approaches to support industry (SMEs)</a:t>
            </a:r>
            <a:endParaRPr b="0" lang="en-US" sz="32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6840" y="1197000"/>
            <a:ext cx="8534520" cy="53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e awareness at early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technical knowledge – toward sound chemical manage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cept &amp; implication of modern (risk-based/performance-based) regul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ance of risk management &amp; the management of chemical substances in produc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ts of public/in-house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 appropriate (collaborative)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ards/ Guid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llaborate with JEMAI/JAMP (Dissemination of JAMP tool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lp leverage burden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ai RoHS Standar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pply-chain collaborative net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-line platfor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rt on new develop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RoHS V.2, new EU standards, Biocidal regulation (Treated articles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&amp;A for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8388360" y="6597720"/>
            <a:ext cx="75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F25D4-B7A1-467C-A29D-E517E332F935}" type="slidenum">
              <a:rPr b="0" lang="th-TH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9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9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9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ahoma"/>
              </a:rPr>
              <a:t>Building up SMEs’ Sound Chemicals Management Capability</a:t>
            </a:r>
            <a:endParaRPr b="0" lang="en-US" sz="24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619200" y="1820880"/>
            <a:ext cx="1535040" cy="276480"/>
          </a:xfrm>
          <a:prstGeom prst="rect">
            <a:avLst/>
          </a:prstGeom>
          <a:noFill/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2~200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2154240" y="1820880"/>
            <a:ext cx="1055520" cy="276480"/>
          </a:xfrm>
          <a:prstGeom prst="rect">
            <a:avLst/>
          </a:prstGeom>
          <a:noFill/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3209760" y="1820880"/>
            <a:ext cx="1055880" cy="276480"/>
          </a:xfrm>
          <a:prstGeom prst="rect">
            <a:avLst/>
          </a:prstGeom>
          <a:noFill/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Box 12"/>
          <p:cNvSpPr/>
          <p:nvPr/>
        </p:nvSpPr>
        <p:spPr>
          <a:xfrm>
            <a:off x="4265640" y="1820880"/>
            <a:ext cx="1055520" cy="276480"/>
          </a:xfrm>
          <a:prstGeom prst="rect">
            <a:avLst/>
          </a:prstGeom>
          <a:noFill/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TextBox 13"/>
          <p:cNvSpPr/>
          <p:nvPr/>
        </p:nvSpPr>
        <p:spPr>
          <a:xfrm>
            <a:off x="5321160" y="1820880"/>
            <a:ext cx="1055880" cy="276480"/>
          </a:xfrm>
          <a:prstGeom prst="rect">
            <a:avLst/>
          </a:prstGeom>
          <a:noFill/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Box 14"/>
          <p:cNvSpPr/>
          <p:nvPr/>
        </p:nvSpPr>
        <p:spPr>
          <a:xfrm>
            <a:off x="6377040" y="1820880"/>
            <a:ext cx="1055520" cy="276480"/>
          </a:xfrm>
          <a:prstGeom prst="rect">
            <a:avLst/>
          </a:prstGeom>
          <a:noFill/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Box 15"/>
          <p:cNvSpPr/>
          <p:nvPr/>
        </p:nvSpPr>
        <p:spPr>
          <a:xfrm>
            <a:off x="7432560" y="1820880"/>
            <a:ext cx="1055880" cy="276120"/>
          </a:xfrm>
          <a:custGeom>
            <a:avLst/>
            <a:gdLst>
              <a:gd name="textAreaLeft" fmla="*/ 0 w 1055880"/>
              <a:gd name="textAreaRight" fmla="*/ 1056240 w 105588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766" y="0"/>
                </a:lnTo>
                <a:lnTo>
                  <a:pt x="21600" y="10800"/>
                </a:lnTo>
                <a:lnTo>
                  <a:pt x="18766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11~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Straight Connector 17"/>
          <p:cNvSpPr/>
          <p:nvPr/>
        </p:nvSpPr>
        <p:spPr>
          <a:xfrm flipV="1">
            <a:off x="2154240" y="1959120"/>
            <a:ext cx="0" cy="4520880"/>
          </a:xfrm>
          <a:prstGeom prst="line">
            <a:avLst/>
          </a:prstGeom>
          <a:ln w="6480">
            <a:solidFill>
              <a:srgbClr val="f7964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Straight Connector 18"/>
          <p:cNvSpPr/>
          <p:nvPr/>
        </p:nvSpPr>
        <p:spPr>
          <a:xfrm flipV="1">
            <a:off x="3209760" y="1820880"/>
            <a:ext cx="0" cy="4659120"/>
          </a:xfrm>
          <a:prstGeom prst="line">
            <a:avLst/>
          </a:prstGeom>
          <a:ln w="6480">
            <a:solidFill>
              <a:srgbClr val="f7964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Straight Connector 19"/>
          <p:cNvSpPr/>
          <p:nvPr/>
        </p:nvSpPr>
        <p:spPr>
          <a:xfrm flipV="1">
            <a:off x="4265640" y="1820880"/>
            <a:ext cx="0" cy="4659120"/>
          </a:xfrm>
          <a:prstGeom prst="line">
            <a:avLst/>
          </a:prstGeom>
          <a:ln w="6480">
            <a:solidFill>
              <a:srgbClr val="f7964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Straight Connector 21"/>
          <p:cNvSpPr/>
          <p:nvPr/>
        </p:nvSpPr>
        <p:spPr>
          <a:xfrm flipV="1">
            <a:off x="5321160" y="1820880"/>
            <a:ext cx="0" cy="4659120"/>
          </a:xfrm>
          <a:prstGeom prst="line">
            <a:avLst/>
          </a:prstGeom>
          <a:ln w="6480">
            <a:solidFill>
              <a:srgbClr val="f7964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Straight Connector 22"/>
          <p:cNvSpPr/>
          <p:nvPr/>
        </p:nvSpPr>
        <p:spPr>
          <a:xfrm flipV="1">
            <a:off x="6377040" y="1820880"/>
            <a:ext cx="0" cy="4659120"/>
          </a:xfrm>
          <a:prstGeom prst="line">
            <a:avLst/>
          </a:prstGeom>
          <a:ln w="6480">
            <a:solidFill>
              <a:srgbClr val="f7964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Straight Connector 23"/>
          <p:cNvSpPr/>
          <p:nvPr/>
        </p:nvSpPr>
        <p:spPr>
          <a:xfrm flipV="1">
            <a:off x="7432560" y="1820880"/>
            <a:ext cx="0" cy="4659120"/>
          </a:xfrm>
          <a:prstGeom prst="line">
            <a:avLst/>
          </a:prstGeom>
          <a:ln w="6480">
            <a:solidFill>
              <a:srgbClr val="f7964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Box 25"/>
          <p:cNvSpPr/>
          <p:nvPr/>
        </p:nvSpPr>
        <p:spPr>
          <a:xfrm>
            <a:off x="214200" y="2382840"/>
            <a:ext cx="12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eld survey of initial statu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Straight Connector 27"/>
          <p:cNvSpPr/>
          <p:nvPr/>
        </p:nvSpPr>
        <p:spPr>
          <a:xfrm flipV="1">
            <a:off x="829440" y="2128680"/>
            <a:ext cx="66600" cy="254160"/>
          </a:xfrm>
          <a:prstGeom prst="line">
            <a:avLst/>
          </a:prstGeom>
          <a:ln w="64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32"/>
          <p:cNvSpPr/>
          <p:nvPr/>
        </p:nvSpPr>
        <p:spPr>
          <a:xfrm>
            <a:off x="1866960" y="3986280"/>
            <a:ext cx="3454200" cy="206280"/>
          </a:xfrm>
          <a:prstGeom prst="rect">
            <a:avLst/>
          </a:prstGeom>
          <a:solidFill>
            <a:srgbClr val="ebf1de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aising awarenes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entagon 33"/>
          <p:cNvSpPr/>
          <p:nvPr/>
        </p:nvSpPr>
        <p:spPr>
          <a:xfrm>
            <a:off x="2525760" y="4192560"/>
            <a:ext cx="4906800" cy="206280"/>
          </a:xfrm>
          <a:custGeom>
            <a:avLst/>
            <a:gdLst>
              <a:gd name="textAreaLeft" fmla="*/ 0 w 4906800"/>
              <a:gd name="textAreaRight" fmla="*/ 4907160 w 490680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46" y="0"/>
                </a:lnTo>
                <a:lnTo>
                  <a:pt x="21600" y="10800"/>
                </a:lnTo>
                <a:lnTo>
                  <a:pt x="2114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1de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chnical training &amp; Consul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Picture 2" descr=""/>
          <p:cNvPicPr/>
          <p:nvPr/>
        </p:nvPicPr>
        <p:blipFill>
          <a:blip r:embed="rId1"/>
          <a:stretch/>
        </p:blipFill>
        <p:spPr>
          <a:xfrm>
            <a:off x="1447920" y="2890800"/>
            <a:ext cx="493560" cy="3668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36"/>
          <p:cNvSpPr/>
          <p:nvPr/>
        </p:nvSpPr>
        <p:spPr>
          <a:xfrm>
            <a:off x="457200" y="4645080"/>
            <a:ext cx="206856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evelop practical guideline for Thai Ind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37"/>
          <p:cNvSpPr/>
          <p:nvPr/>
        </p:nvSpPr>
        <p:spPr>
          <a:xfrm>
            <a:off x="2525760" y="4398840"/>
            <a:ext cx="684000" cy="184320"/>
          </a:xfrm>
          <a:prstGeom prst="rect">
            <a:avLst/>
          </a:prstGeom>
          <a:solidFill>
            <a:srgbClr val="ebf1de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38"/>
          <p:cNvSpPr/>
          <p:nvPr/>
        </p:nvSpPr>
        <p:spPr>
          <a:xfrm>
            <a:off x="2867040" y="4896000"/>
            <a:ext cx="1878120" cy="228600"/>
          </a:xfrm>
          <a:prstGeom prst="rect">
            <a:avLst/>
          </a:prstGeom>
          <a:solidFill>
            <a:srgbClr val="ebf1de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in pilot compan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Straight Connector 40"/>
          <p:cNvSpPr/>
          <p:nvPr/>
        </p:nvSpPr>
        <p:spPr>
          <a:xfrm>
            <a:off x="2525760" y="4490280"/>
            <a:ext cx="0" cy="290520"/>
          </a:xfrm>
          <a:prstGeom prst="line">
            <a:avLst/>
          </a:prstGeom>
          <a:ln w="64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entagon 41"/>
          <p:cNvSpPr/>
          <p:nvPr/>
        </p:nvSpPr>
        <p:spPr>
          <a:xfrm>
            <a:off x="2525760" y="2201760"/>
            <a:ext cx="5673600" cy="206640"/>
          </a:xfrm>
          <a:custGeom>
            <a:avLst/>
            <a:gdLst>
              <a:gd name="textAreaLeft" fmla="*/ 0 w 5673600"/>
              <a:gd name="textAreaRight" fmla="*/ 5673960 w 567360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07" y="0"/>
                </a:lnTo>
                <a:lnTo>
                  <a:pt x="21600" y="10800"/>
                </a:lnTo>
                <a:lnTo>
                  <a:pt x="212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d5b5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oin IEC TC-11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entagon 42"/>
          <p:cNvSpPr/>
          <p:nvPr/>
        </p:nvSpPr>
        <p:spPr>
          <a:xfrm>
            <a:off x="3209760" y="2408400"/>
            <a:ext cx="4989600" cy="244440"/>
          </a:xfrm>
          <a:custGeom>
            <a:avLst/>
            <a:gdLst>
              <a:gd name="textAreaLeft" fmla="*/ 0 w 4989600"/>
              <a:gd name="textAreaRight" fmla="*/ 4989960 w 4989600"/>
              <a:gd name="textAreaTop" fmla="*/ 0 h 244440"/>
              <a:gd name="textAreaBottom" fmla="*/ 244440 h 244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71" y="0"/>
                </a:lnTo>
                <a:lnTo>
                  <a:pt x="21600" y="10800"/>
                </a:lnTo>
                <a:lnTo>
                  <a:pt x="210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d5b5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i TC-111 Mirror Committee (TC 1008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entagon 43"/>
          <p:cNvSpPr/>
          <p:nvPr/>
        </p:nvSpPr>
        <p:spPr>
          <a:xfrm>
            <a:off x="1995480" y="2946240"/>
            <a:ext cx="6203880" cy="266760"/>
          </a:xfrm>
          <a:custGeom>
            <a:avLst/>
            <a:gdLst>
              <a:gd name="textAreaLeft" fmla="*/ 0 w 6203880"/>
              <a:gd name="textAreaRight" fmla="*/ 6204240 w 6203880"/>
              <a:gd name="textAreaTop" fmla="*/ 0 h 266760"/>
              <a:gd name="textAreaBottom" fmla="*/ 266760 h 266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136" y="0"/>
                </a:lnTo>
                <a:lnTo>
                  <a:pt x="21600" y="10800"/>
                </a:lnTo>
                <a:lnTo>
                  <a:pt x="2113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d5b5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 ThaiRoHS Allianc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entagon 44"/>
          <p:cNvSpPr/>
          <p:nvPr/>
        </p:nvSpPr>
        <p:spPr>
          <a:xfrm>
            <a:off x="4265640" y="3278160"/>
            <a:ext cx="3933720" cy="206280"/>
          </a:xfrm>
          <a:custGeom>
            <a:avLst/>
            <a:gdLst>
              <a:gd name="textAreaLeft" fmla="*/ 0 w 3933720"/>
              <a:gd name="textAreaRight" fmla="*/ 3934080 w 3933720"/>
              <a:gd name="textAreaTop" fmla="*/ 0 h 206280"/>
              <a:gd name="textAreaBottom" fmla="*/ 206640 h 20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033" y="0"/>
                </a:lnTo>
                <a:lnTo>
                  <a:pt x="21600" y="10800"/>
                </a:lnTo>
                <a:lnTo>
                  <a:pt x="2103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cd5b5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llaborate with JAMP/JEMA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Rectangle 45"/>
          <p:cNvSpPr/>
          <p:nvPr/>
        </p:nvSpPr>
        <p:spPr>
          <a:xfrm>
            <a:off x="4421160" y="2708280"/>
            <a:ext cx="3324240" cy="19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i RoHS Standard (TIS 2368-2551 (2008)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2" name="Elbow Connector 47"/>
          <p:cNvCxnSpPr/>
          <p:nvPr/>
        </p:nvCxnSpPr>
        <p:spPr>
          <a:xfrm flipV="1">
            <a:off x="5945040" y="3483720"/>
            <a:ext cx="1488240" cy="253080"/>
          </a:xfrm>
          <a:prstGeom prst="bentConnector3">
            <a:avLst>
              <a:gd name="adj1" fmla="val 49987"/>
            </a:avLst>
          </a:prstGeom>
          <a:ln w="6480">
            <a:solidFill>
              <a:srgbClr val="f79646"/>
            </a:solidFill>
            <a:round/>
          </a:ln>
        </p:spPr>
      </p:cxnSp>
      <p:sp>
        <p:nvSpPr>
          <p:cNvPr id="223" name="Pentagon 49"/>
          <p:cNvSpPr/>
          <p:nvPr/>
        </p:nvSpPr>
        <p:spPr>
          <a:xfrm>
            <a:off x="4745160" y="5002200"/>
            <a:ext cx="3166920" cy="274680"/>
          </a:xfrm>
          <a:custGeom>
            <a:avLst/>
            <a:gdLst>
              <a:gd name="textAreaLeft" fmla="*/ 0 w 3166920"/>
              <a:gd name="textAreaRight" fmla="*/ 3167280 w 316692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663" y="0"/>
                </a:lnTo>
                <a:lnTo>
                  <a:pt x="21600" y="10800"/>
                </a:lnTo>
                <a:lnTo>
                  <a:pt x="2066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1de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AMP Seminar &amp; Worksho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Rectangle 50"/>
          <p:cNvSpPr/>
          <p:nvPr/>
        </p:nvSpPr>
        <p:spPr>
          <a:xfrm>
            <a:off x="2525760" y="5424480"/>
            <a:ext cx="3851280" cy="274680"/>
          </a:xfrm>
          <a:prstGeom prst="rect">
            <a:avLst/>
          </a:prstGeom>
          <a:solidFill>
            <a:srgbClr val="b3a2c7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pability Building Programs for analytical laborator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25" name="Elbow Connector 53"/>
          <p:cNvCxnSpPr>
            <a:stCxn id="221" idx="1"/>
          </p:cNvCxnSpPr>
          <p:nvPr/>
        </p:nvCxnSpPr>
        <p:spPr>
          <a:xfrm rot="10800000">
            <a:off x="4265640" y="2652120"/>
            <a:ext cx="155880" cy="153000"/>
          </a:xfrm>
          <a:prstGeom prst="bentConnector3">
            <a:avLst>
              <a:gd name="adj1" fmla="val 50000"/>
            </a:avLst>
          </a:prstGeom>
          <a:ln w="6480">
            <a:solidFill>
              <a:srgbClr val="f79646"/>
            </a:solidFill>
            <a:round/>
          </a:ln>
        </p:spPr>
      </p:cxnSp>
      <p:sp>
        <p:nvSpPr>
          <p:cNvPr id="226" name="Rectangle 54"/>
          <p:cNvSpPr/>
          <p:nvPr/>
        </p:nvSpPr>
        <p:spPr>
          <a:xfrm>
            <a:off x="4421160" y="3613320"/>
            <a:ext cx="1584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ign MOU with JEMA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Picture 1" descr="JAMP-logo"/>
          <p:cNvPicPr/>
          <p:nvPr/>
        </p:nvPicPr>
        <p:blipFill>
          <a:blip r:embed="rId2"/>
          <a:stretch/>
        </p:blipFill>
        <p:spPr>
          <a:xfrm>
            <a:off x="3276720" y="3278160"/>
            <a:ext cx="914400" cy="26676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56"/>
          <p:cNvSpPr/>
          <p:nvPr/>
        </p:nvSpPr>
        <p:spPr>
          <a:xfrm>
            <a:off x="4745160" y="5742000"/>
            <a:ext cx="1631880" cy="577800"/>
          </a:xfrm>
          <a:prstGeom prst="rect">
            <a:avLst/>
          </a:prstGeom>
          <a:solidFill>
            <a:srgbClr val="e6b9b8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Practical training for Thai RoHS Enforcement Authority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TextBox 57"/>
          <p:cNvSpPr/>
          <p:nvPr/>
        </p:nvSpPr>
        <p:spPr>
          <a:xfrm>
            <a:off x="896760" y="1490760"/>
            <a:ext cx="1436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oHS Enforc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0" name="Shape 59"/>
          <p:cNvCxnSpPr>
            <a:stCxn id="229" idx="3"/>
            <a:endCxn id="196" idx="0"/>
          </p:cNvCxnSpPr>
          <p:nvPr/>
        </p:nvCxnSpPr>
        <p:spPr>
          <a:xfrm>
            <a:off x="2333520" y="1584000"/>
            <a:ext cx="349920" cy="237240"/>
          </a:xfrm>
          <a:prstGeom prst="bentConnector2">
            <a:avLst/>
          </a:prstGeom>
          <a:ln w="6480">
            <a:solidFill>
              <a:srgbClr val="f79646"/>
            </a:solidFill>
            <a:round/>
          </a:ln>
        </p:spPr>
      </p:cxnSp>
      <p:sp>
        <p:nvSpPr>
          <p:cNvPr id="231" name="TextBox 67"/>
          <p:cNvSpPr/>
          <p:nvPr/>
        </p:nvSpPr>
        <p:spPr>
          <a:xfrm>
            <a:off x="6421320" y="1306440"/>
            <a:ext cx="14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CH Notification (of SVHC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2" name="Shape 75"/>
          <p:cNvCxnSpPr>
            <a:stCxn id="231" idx="3"/>
          </p:cNvCxnSpPr>
          <p:nvPr/>
        </p:nvCxnSpPr>
        <p:spPr>
          <a:xfrm>
            <a:off x="7858080" y="1490400"/>
            <a:ext cx="102240" cy="330840"/>
          </a:xfrm>
          <a:prstGeom prst="bentConnector2">
            <a:avLst/>
          </a:prstGeom>
          <a:ln w="6480">
            <a:solidFill>
              <a:srgbClr val="f79646"/>
            </a:solidFill>
            <a:round/>
          </a:ln>
        </p:spPr>
      </p:cxnSp>
      <p:sp>
        <p:nvSpPr>
          <p:cNvPr id="233" name="TextBox 77"/>
          <p:cNvSpPr/>
          <p:nvPr/>
        </p:nvSpPr>
        <p:spPr>
          <a:xfrm>
            <a:off x="3063960" y="1490760"/>
            <a:ext cx="143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CH Enforceme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4" name="Shape 79"/>
          <p:cNvCxnSpPr>
            <a:stCxn id="233" idx="3"/>
            <a:endCxn id="198" idx="0"/>
          </p:cNvCxnSpPr>
          <p:nvPr/>
        </p:nvCxnSpPr>
        <p:spPr>
          <a:xfrm>
            <a:off x="4500360" y="1584000"/>
            <a:ext cx="294120" cy="237240"/>
          </a:xfrm>
          <a:prstGeom prst="bentConnector2">
            <a:avLst/>
          </a:prstGeom>
          <a:ln w="6480">
            <a:solidFill>
              <a:srgbClr val="f79646"/>
            </a:solidFill>
            <a:round/>
          </a:ln>
        </p:spPr>
      </p:cxnSp>
      <p:sp>
        <p:nvSpPr>
          <p:cNvPr id="235" name="TextBox 81"/>
          <p:cNvSpPr/>
          <p:nvPr/>
        </p:nvSpPr>
        <p:spPr>
          <a:xfrm>
            <a:off x="2982960" y="1214280"/>
            <a:ext cx="1809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ACH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candidate Lis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36" name="Shape 83"/>
          <p:cNvCxnSpPr>
            <a:stCxn id="235" idx="3"/>
          </p:cNvCxnSpPr>
          <p:nvPr/>
        </p:nvCxnSpPr>
        <p:spPr>
          <a:xfrm>
            <a:off x="4792320" y="1306080"/>
            <a:ext cx="351360" cy="515160"/>
          </a:xfrm>
          <a:prstGeom prst="bentConnector2">
            <a:avLst/>
          </a:prstGeom>
          <a:ln w="6480">
            <a:solidFill>
              <a:srgbClr val="f79646"/>
            </a:solidFill>
            <a:round/>
          </a:ln>
        </p:spPr>
      </p:cxnSp>
      <p:sp>
        <p:nvSpPr>
          <p:cNvPr id="237" name="Rectangle 86"/>
          <p:cNvSpPr/>
          <p:nvPr/>
        </p:nvSpPr>
        <p:spPr>
          <a:xfrm>
            <a:off x="7504200" y="4129200"/>
            <a:ext cx="1182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30+ Training Cours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Rectangle 87"/>
          <p:cNvSpPr/>
          <p:nvPr/>
        </p:nvSpPr>
        <p:spPr>
          <a:xfrm>
            <a:off x="5389560" y="3986280"/>
            <a:ext cx="11826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10+ Semina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Rectangle 92"/>
          <p:cNvSpPr/>
          <p:nvPr/>
        </p:nvSpPr>
        <p:spPr>
          <a:xfrm>
            <a:off x="2681280" y="4532400"/>
            <a:ext cx="1176480" cy="366480"/>
          </a:xfrm>
          <a:prstGeom prst="rect">
            <a:avLst/>
          </a:prstGeom>
          <a:solidFill>
            <a:srgbClr val="ebf1de"/>
          </a:solidFill>
          <a:ln w="6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in the Train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Rectangle 93"/>
          <p:cNvSpPr/>
          <p:nvPr/>
        </p:nvSpPr>
        <p:spPr>
          <a:xfrm>
            <a:off x="3906720" y="4532400"/>
            <a:ext cx="1665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40 Trainers/Audito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Rectangle 94"/>
          <p:cNvSpPr/>
          <p:nvPr/>
        </p:nvSpPr>
        <p:spPr>
          <a:xfrm>
            <a:off x="3465360" y="5172120"/>
            <a:ext cx="1224000" cy="11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45 Compan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Rectangle 95"/>
          <p:cNvSpPr/>
          <p:nvPr/>
        </p:nvSpPr>
        <p:spPr>
          <a:xfrm>
            <a:off x="6421320" y="5357880"/>
            <a:ext cx="206712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2 inter-laboratory studi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ahoma"/>
              </a:rPr>
              <a:t>27 Labs participat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Slide Number Placeholder 96"/>
          <p:cNvSpPr/>
          <p:nvPr/>
        </p:nvSpPr>
        <p:spPr>
          <a:xfrm>
            <a:off x="8388360" y="6597720"/>
            <a:ext cx="75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9110-F7E1-4C47-9120-6BB8454CF068}" type="slidenum">
              <a:rPr b="0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ahoma"/>
              </a:rPr>
              <a:t>2005-2006: Raise awareness</a:t>
            </a:r>
            <a:endParaRPr b="0" lang="en-US" sz="36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45" name="Slide Number Placeholder 7"/>
          <p:cNvSpPr/>
          <p:nvPr/>
        </p:nvSpPr>
        <p:spPr>
          <a:xfrm>
            <a:off x="8388360" y="6597720"/>
            <a:ext cx="75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1E8E-0DE9-49BB-A85A-C5F318BF90F9}" type="slidenum">
              <a:rPr b="0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 rot="20958600">
            <a:off x="1118880" y="1677600"/>
            <a:ext cx="2644560" cy="3657600"/>
          </a:xfrm>
          <a:prstGeom prst="rect">
            <a:avLst/>
          </a:prstGeom>
          <a:ln w="9360">
            <a:solidFill>
              <a:srgbClr val="f79646"/>
            </a:solidFill>
            <a:miter/>
          </a:ln>
        </p:spPr>
      </p:pic>
      <p:pic>
        <p:nvPicPr>
          <p:cNvPr id="247" name="Picture 3" descr=""/>
          <p:cNvPicPr/>
          <p:nvPr/>
        </p:nvPicPr>
        <p:blipFill>
          <a:blip r:embed="rId2"/>
          <a:stretch/>
        </p:blipFill>
        <p:spPr>
          <a:xfrm>
            <a:off x="3241800" y="1324080"/>
            <a:ext cx="2601720" cy="3657600"/>
          </a:xfrm>
          <a:prstGeom prst="rect">
            <a:avLst/>
          </a:prstGeom>
          <a:ln w="9360">
            <a:solidFill>
              <a:srgbClr val="f79646"/>
            </a:solidFill>
            <a:miter/>
          </a:ln>
        </p:spPr>
      </p:pic>
      <p:pic>
        <p:nvPicPr>
          <p:cNvPr id="248" name="Picture 4" descr=""/>
          <p:cNvPicPr/>
          <p:nvPr/>
        </p:nvPicPr>
        <p:blipFill>
          <a:blip r:embed="rId3"/>
          <a:stretch/>
        </p:blipFill>
        <p:spPr>
          <a:xfrm rot="865800">
            <a:off x="5289480" y="1806120"/>
            <a:ext cx="2730600" cy="3657600"/>
          </a:xfrm>
          <a:prstGeom prst="rect">
            <a:avLst/>
          </a:prstGeom>
          <a:ln w="9360">
            <a:solidFill>
              <a:srgbClr val="f7964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8"/>
          <p:cNvSpPr/>
          <p:nvPr/>
        </p:nvSpPr>
        <p:spPr>
          <a:xfrm>
            <a:off x="1500120" y="1228680"/>
            <a:ext cx="5214960" cy="482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Voluntary Efforts from ~ 40 Organizations </a:t>
            </a:r>
            <a:br>
              <a:rPr sz="1600"/>
            </a:b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(~500 man-day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Tahoma"/>
              </a:rPr>
              <a:t>Thailand 1</a:t>
            </a:r>
            <a:r>
              <a:rPr b="0" lang="en-US" sz="2400" spc="-1" strike="noStrike" baseline="30000">
                <a:solidFill>
                  <a:srgbClr val="1f497d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1f497d"/>
                </a:solidFill>
                <a:latin typeface="Tahoma"/>
              </a:rPr>
              <a:t> RoHS/ELV Compliance Guideline (2006)</a:t>
            </a:r>
            <a:endParaRPr b="0" lang="en-US" sz="2400" spc="-1" strike="noStrike">
              <a:solidFill>
                <a:srgbClr val="1f497d"/>
              </a:solidFill>
              <a:latin typeface="Tahoma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1"/>
          <a:stretch/>
        </p:blipFill>
        <p:spPr>
          <a:xfrm>
            <a:off x="214200" y="1335240"/>
            <a:ext cx="8504280" cy="5236920"/>
          </a:xfrm>
          <a:prstGeom prst="rect">
            <a:avLst/>
          </a:prstGeom>
          <a:ln w="0">
            <a:noFill/>
          </a:ln>
        </p:spPr>
      </p:pic>
      <p:sp>
        <p:nvSpPr>
          <p:cNvPr id="252" name="Slide Number Placeholder 50"/>
          <p:cNvSpPr/>
          <p:nvPr/>
        </p:nvSpPr>
        <p:spPr>
          <a:xfrm>
            <a:off x="8388360" y="6597720"/>
            <a:ext cx="75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1B8F9-5725-4238-AC0D-580371A8579B}" type="slidenum">
              <a:rPr b="0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Tahoma"/>
              </a:rPr>
              <a:t>Provide Guidance (with supported information)</a:t>
            </a:r>
            <a:endParaRPr b="0" lang="en-US" sz="2800" spc="-1" strike="noStrike">
              <a:solidFill>
                <a:srgbClr val="1f497d"/>
              </a:solidFill>
              <a:latin typeface="Tahoma"/>
            </a:endParaRPr>
          </a:p>
        </p:txBody>
      </p:sp>
      <p:sp>
        <p:nvSpPr>
          <p:cNvPr id="254" name="Slide Number Placeholder 7"/>
          <p:cNvSpPr/>
          <p:nvPr/>
        </p:nvSpPr>
        <p:spPr>
          <a:xfrm>
            <a:off x="8388360" y="6597720"/>
            <a:ext cx="75564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109C0-D341-41DB-B178-0A5E20D4F983}" type="slidenum">
              <a:rPr b="0" lang="en-US" sz="11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5" name="Picture 2" descr="D:\NR\TEA_Lab\EU fund\Action\Operation\Books\Output\cover\Cover1.jpg"/>
          <p:cNvPicPr/>
          <p:nvPr/>
        </p:nvPicPr>
        <p:blipFill>
          <a:blip r:embed="rId1"/>
          <a:stretch/>
        </p:blipFill>
        <p:spPr>
          <a:xfrm>
            <a:off x="992160" y="3581280"/>
            <a:ext cx="1600200" cy="22860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D:\NR\TEA_Lab\EU fund\Action\Operation\Books\Output\cover\Cover2.jpg"/>
          <p:cNvPicPr/>
          <p:nvPr/>
        </p:nvPicPr>
        <p:blipFill>
          <a:blip r:embed="rId2"/>
          <a:stretch/>
        </p:blipFill>
        <p:spPr>
          <a:xfrm>
            <a:off x="3430440" y="1143000"/>
            <a:ext cx="1598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D:\NR\TEA_Lab\EU fund\Action\Operation\Books\Output\cover\Cover3.jpg"/>
          <p:cNvPicPr/>
          <p:nvPr/>
        </p:nvPicPr>
        <p:blipFill>
          <a:blip r:embed="rId3"/>
          <a:stretch/>
        </p:blipFill>
        <p:spPr>
          <a:xfrm>
            <a:off x="5106960" y="1143000"/>
            <a:ext cx="1609920" cy="2286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D:\NR\TEA_Lab\EU fund\Action\Operation\Books\Output\cover\Cover5.jpg"/>
          <p:cNvPicPr/>
          <p:nvPr/>
        </p:nvPicPr>
        <p:blipFill>
          <a:blip r:embed="rId4"/>
          <a:stretch/>
        </p:blipFill>
        <p:spPr>
          <a:xfrm>
            <a:off x="4573440" y="3581280"/>
            <a:ext cx="1602000" cy="2286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" descr="D:\NR\TEA_Lab\EU fund\Action\Operation\Books\Output\cover\Cover7.jpg"/>
          <p:cNvPicPr/>
          <p:nvPr/>
        </p:nvPicPr>
        <p:blipFill>
          <a:blip r:embed="rId5"/>
          <a:stretch/>
        </p:blipFill>
        <p:spPr>
          <a:xfrm>
            <a:off x="6326280" y="3581280"/>
            <a:ext cx="1598400" cy="22860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4" descr="D:\NR\TEA_Lab\EU fund\Action\Operation\Books\Output\cover\coverOK-2.jpg"/>
          <p:cNvPicPr/>
          <p:nvPr/>
        </p:nvPicPr>
        <p:blipFill>
          <a:blip r:embed="rId6"/>
          <a:stretch/>
        </p:blipFill>
        <p:spPr>
          <a:xfrm>
            <a:off x="1754280" y="1143000"/>
            <a:ext cx="1584360" cy="22860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5" descr="D:\NR\TEA_Lab\EU fund\Action\Operation\Books\Output\cover\coverOK-1.jpg"/>
          <p:cNvPicPr/>
          <p:nvPr/>
        </p:nvPicPr>
        <p:blipFill>
          <a:blip r:embed="rId7"/>
          <a:stretch/>
        </p:blipFill>
        <p:spPr>
          <a:xfrm>
            <a:off x="2744640" y="3581280"/>
            <a:ext cx="15829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1T00:26:22Z</dcterms:created>
  <dc:creator>Nudjarin</dc:creator>
  <dc:description/>
  <dc:language>en-US</dc:language>
  <cp:lastModifiedBy>Chang Yii Tan_2</cp:lastModifiedBy>
  <dcterms:modified xsi:type="dcterms:W3CDTF">2014-02-14T08:50:26Z</dcterms:modified>
  <cp:revision>57</cp:revision>
  <dc:subject/>
  <dc:title>WTO Bali Session: Standard Compliance Capacities and Trade</dc:title>
</cp:coreProperties>
</file>