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C6F8-9FEB-43D1-A597-0BF15BB8F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9BB7-EABF-4337-9F4E-37E69E87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AF6D-0E83-42A1-AD17-CD3DA9EF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9F13-7A4A-483B-B7BB-3CDDED209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419-E96B-442A-B7AD-9A5089F2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7BDB-1E63-4294-8A4F-9562D962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D676-6A29-4E58-A9D4-CD259F73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235-88FF-4FF6-A9C9-2C5A06D1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8BBF-DCFB-413D-99BF-D5D7DF5D2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9FA0-FA6C-4F09-ABC9-6D3C1795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93A7-4454-4A0D-9CC4-F97FA832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2F00-4B6E-49F9-9E5B-BBB2D5ED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FE314-AE76-4CC5-BA36-C9B220A3546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1700280"/>
            <a:ext cx="8569080" cy="19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Who Took Measures about Chemicals in Product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8000" y="3933360"/>
            <a:ext cx="89280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asushi Uek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conomic Research Institute for ASEAN and East Asia (ERIA), Jakarta, Indone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International Seminar on PRERs organized by IDE-JETRO in association with investPenang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20 February 2014, Penang, Malaysi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 central hypothesis the survey propos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d firms in GVCs encourage firms inserted in their GVCs to take measures to comply with requirements related to chemical substances in produc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irms within GVCs (GVC firms) are more likely to take measures about chemical substances in products than firms without GVCs (non-GVC firms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ctr"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(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Measur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=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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V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o took measures about chemic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11280" y="1268280"/>
          <a:ext cx="8064360" cy="5029200"/>
        </p:xfrm>
        <a:graphic>
          <a:graphicData uri="http://schemas.openxmlformats.org/drawingml/2006/table">
            <a:tbl>
              <a:tblPr/>
              <a:tblGrid>
                <a:gridCol w="5197320"/>
                <a:gridCol w="1365480"/>
                <a:gridCol w="1501560"/>
              </a:tblGrid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n-G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) GVC or non-GVC</a:t>
                      </a:r>
                      <a:r>
                        <a:rPr b="1" lang="ja-JP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9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) Direct or indirect ex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rect ex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 ex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pared with only domestic sales to without GV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) The most important mar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rect export (domestic market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-17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eign mark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AS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Chi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Jap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E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 lvl="1" marL="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ＭＳ Ｐゴシック"/>
                        </a:rPr>
                        <a:t>Rest of the Wor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ompared with domestic sales to without GV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o are inserted in GVC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9640" y="1773360"/>
          <a:ext cx="7704360" cy="3470040"/>
        </p:xfrm>
        <a:graphic>
          <a:graphicData uri="http://schemas.openxmlformats.org/drawingml/2006/table">
            <a:tbl>
              <a:tblPr/>
              <a:tblGrid>
                <a:gridCol w="3456000"/>
                <a:gridCol w="2160720"/>
                <a:gridCol w="2087640"/>
              </a:tblGrid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40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asur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ertion into G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O9001 certif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SO14001 certif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&amp;D activ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mber of employees in 20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（○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rm 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oreign ownership (JV/MNC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19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rrelation between measures  and GV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2997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nk you very much for your attention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asushi.ueki@eria.or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3T18:39:42Z</dcterms:created>
  <dc:creator>Yasushi</dc:creator>
  <dc:description/>
  <dc:language>en-US</dc:language>
  <cp:lastModifiedBy>Chang Yii Tan_2</cp:lastModifiedBy>
  <dcterms:modified xsi:type="dcterms:W3CDTF">2014-02-16T23:13:03Z</dcterms:modified>
  <cp:revision>48</cp:revision>
  <dc:subject/>
  <dc:title>PowerPoint プレゼンテーション</dc:title>
</cp:coreProperties>
</file>